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928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796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5605560" y="-360"/>
            <a:ext cx="42876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2320" y="50436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17240" y="3201840"/>
            <a:ext cx="725796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6405480"/>
            <a:ext cx="42879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5605560" y="6405480"/>
            <a:ext cx="42876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2DD065-A9E6-4AFB-807F-B86819EAE1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bove methodology found its way of application on a twin shaft gas turbine (ABB GT10), installed at Rhodes island, and owned by Public Power Corporation (PPC) of Gree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hronicle of the application may be summarised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a first phase, the problem was to identify the cause of the observed EGT incr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problem was identified, corrective action was taken and it was necessary to verify the effectiveness of the interventions done on the eng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lysis performed in each case is described in the follow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llected from the initial operation of the engine as well as those from efficiency testing were analysed for performing a diagnosis. The analysis of the data was made at two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irst, a "common sense" thermodynamic analysis was performed, by executing mainly heat balance calc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calculations can provide non-measured quantities from the values of measured ones, and give a comparative picture of parameters characterising engine cond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of ISO 2314 correction and calculation procedures were applied for this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d and calculated values of various thermodynamic quantities are reduced to operation with standard day ambient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econd, a more elaborate procedure, namely the adaptive performance modelling mentioned above, has been appli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ed the inspection confirmed the initial diagnosis for the condition of the turbines. Deposits were found in both gas generator and power turbine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were due to anticorrosive additives of the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s 5 to 8 illustrate the condition of the blades. Figures 5 and 6 show the first rotor and stator of the compressor turbine, respective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have the form of a uniform coat, which has partially cracked on the rotor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of the deposit layer has been removed in the picture of the vanes, Fig. 6, to indicate the make more apparent the presence of the lay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stator vanes of the power turbine are also covered by a more or less uniform coat of deposits, Figure 7, deposits on the rotor blades give a rougher surface, Figure 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photos are taken using an ordinary camera, the layer of deposits is well discri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rrective action wa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alternative approaches wer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rst one consisted in cleaning the blades while the later to perform geometry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anufacturer considers deposition as an unavoidable process, when oil is used as a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l oil treatment with additives is essential in order to increase ash melting point and thus minimise the risk of blade corrosion (Olsson et al 196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also alleges that this process is taking place during a small period during the beginning of the operation of the engine, when this layer is formed and thereafter no considerable changes are taking pl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fore, performance recovery was suggested to be based on component re-matching, resulting from the modification of the stagger angle of power turbine stator v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possibility was foreseen on this engine, in order to remedy situations as the presen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E8E44-8630-47DC-9D89-2A5D955F57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BD1B5-11C3-41AA-9380-5BACCBF7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936A6-1EF0-460B-AC53-2B08B60F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0FC72-CB93-4646-8D24-A8F1E156B7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B9304-D04D-4370-9355-963BC1EA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6BD96-585F-47B1-B33A-8717A862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E1F35-CCAA-4FF2-86D4-27617A29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CAD9C-DF9A-4911-B06A-548A32E2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DC87A-14D9-43DF-96A5-44F941C4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1C6D3-1C65-49B0-9EFC-F8DF5EFC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4A15F-993B-4DC3-9988-5E21D422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09687-866A-40EC-8B8D-09F2B6DD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9692-2CE8-4E16-9938-B66DFBD1DC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83808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7960" y="622944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641600"/>
            <a:ext cx="44197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imes New Roman"/>
              </a:rPr>
              <a:t>Gas Turbine (ABB GT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84480" y="2157480"/>
            <a:ext cx="52466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3DEBA-CB06-4210-BE61-286F6391B10F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84600" y="863640"/>
          <a:ext cx="28702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863640"/>
                    <a:ext cx="28702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39720" y="863640"/>
          <a:ext cx="304164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9720" y="863640"/>
                    <a:ext cx="3041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026D9-6CBD-4ACE-B49D-4D0F1DCA75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C621A-C8A9-453A-BE08-9F053DC87F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7EFA4-FF95-471E-9D6C-5CE0A28E1C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1680" y="2133720"/>
            <a:ext cx="4246560" cy="34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89000" y="110160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Gas Generator Turbine 1</a:t>
            </a:r>
            <a:r>
              <a:rPr b="1" lang="en-GB" sz="2400" spc="-1" strike="noStrike" u="sng" baseline="30000">
                <a:solidFill>
                  <a:srgbClr val="1717ff"/>
                </a:solidFill>
                <a:uFillTx/>
                <a:latin typeface="Times New Roman"/>
              </a:rPr>
              <a:t>st</a:t>
            </a: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 rotor b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4680" y="2131920"/>
            <a:ext cx="4219560" cy="34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5C8B-88BA-443C-8BF0-C41A405C7FD4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53" t="1812" r="0" b="2761"/>
          <a:stretch/>
        </p:blipFill>
        <p:spPr>
          <a:xfrm>
            <a:off x="312840" y="2168640"/>
            <a:ext cx="4006800" cy="30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1360440"/>
            <a:ext cx="30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Power Turbine 2nd Stator vanes detail</a:t>
            </a: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311640"/>
            <a:ext cx="3695760" cy="234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1120" y="573408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Power Turbine 2nd Stator vanes. Leading edge pressure side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619F9-F675-413B-8F58-66417813F640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32000" y="1089000"/>
            <a:ext cx="4678560" cy="46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E0A0E-B71A-4ECA-9CB2-500D7B8446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000" y="833400"/>
            <a:ext cx="8820000" cy="51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8A1F6-8E32-4D6A-86BF-72C11532AD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A83D8-3807-47CE-A1D3-8124F0DAD2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ECB63-A3BD-4311-8B97-7D0CFF52E9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0280" y="998640"/>
          <a:ext cx="75438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80332-30D8-409E-A92E-FB91C08368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828800" y="3298680"/>
          <a:ext cx="5486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98680"/>
                    <a:ext cx="5486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28800" y="830160"/>
          <a:ext cx="5486400" cy="278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0160"/>
                    <a:ext cx="548640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5E9CD-FE94-474D-A27D-3EE36E7FCE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5:13:03Z</dcterms:created>
  <dc:creator>cristof</dc:creator>
  <dc:description/>
  <dc:language>en-US</dc:language>
  <cp:lastModifiedBy>diem039</cp:lastModifiedBy>
  <dcterms:modified xsi:type="dcterms:W3CDTF">2004-10-15T06:28:15Z</dcterms:modified>
  <cp:revision>425</cp:revision>
  <dc:subject/>
  <dc:title>PowerPoint Presentation</dc:title>
</cp:coreProperties>
</file>