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wmf" ContentType="image/x-wmf"/>
  <Override PartName="/ppt/media/image2.png" ContentType="image/png"/>
  <Override PartName="/ppt/media/image9.wmf" ContentType="image/x-wmf"/>
  <Override PartName="/ppt/media/image16.wmf" ContentType="image/x-wmf"/>
  <Override PartName="/ppt/media/image14.wmf" ContentType="image/x-wmf"/>
  <Override PartName="/ppt/media/image1.png" ContentType="image/png"/>
  <Override PartName="/ppt/media/image6.jpeg" ContentType="image/jpeg"/>
  <Override PartName="/ppt/media/image12.wmf" ContentType="image/x-wmf"/>
  <Override PartName="/ppt/media/image4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3.png" ContentType="image/png"/>
  <Override PartName="/ppt/media/image8.wmf" ContentType="image/x-wmf"/>
  <Override PartName="/ppt/media/image13.wmf" ContentType="image/x-wmf"/>
  <Override PartName="/ppt/media/image5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9893300" cy="67421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9892800" cy="674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4287960" cy="33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3"/>
          </p:nvPr>
        </p:nvSpPr>
        <p:spPr>
          <a:xfrm>
            <a:off x="5605560" y="-360"/>
            <a:ext cx="4287600" cy="33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3262320" y="504360"/>
            <a:ext cx="3371760" cy="25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1317240" y="3201840"/>
            <a:ext cx="7257960" cy="303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4"/>
          </p:nvPr>
        </p:nvSpPr>
        <p:spPr>
          <a:xfrm>
            <a:off x="-360" y="6405480"/>
            <a:ext cx="4287960" cy="338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5"/>
          </p:nvPr>
        </p:nvSpPr>
        <p:spPr>
          <a:xfrm>
            <a:off x="5605560" y="6405480"/>
            <a:ext cx="4287600" cy="338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82B4993-1195-4920-A36F-F3DEAAF93D5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3262320" y="504720"/>
            <a:ext cx="3371760" cy="25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1317240" y="3203280"/>
            <a:ext cx="7257960" cy="303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above methodology found its way of application on a twin shaft gas turbine (ABB GT10), installed at Rhodes island, and owned by Public Power Corporation (PPC) of Greec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chronicle of the application may be summarised as follow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uring a first phase, the problem was to identify the cause of the observed EGT increas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nce the problem was identified, corrective action was taken and it was necessary to verify the effectiveness of the interventions done on the engin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analysis performed in each case is described in the following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ata collected from the initial operation of the engine as well as those from efficiency testing were analysed for performing a diagnosis. The analysis of the data was made at two level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 First, a "common sense" thermodynamic analysis was performed, by executing mainly heat balance calculation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uch calculations can provide non-measured quantities from the values of measured ones, and give a comparative picture of parameters characterising engine condition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guidelines of ISO 2314 correction and calculation procedures were applied for this purpo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easured and calculated values of various thermodynamic quantities are reduced to operation with standard day ambient condi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 Second, a more elaborate procedure, namely the adaptive performance modelling mentioned above, has been applied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3262320" y="504720"/>
            <a:ext cx="3371760" cy="25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1317240" y="3203280"/>
            <a:ext cx="7257960" cy="303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deed the inspection confirmed the initial diagnosis for the condition of the turbines. Deposits were found in both gas generator and power turbine blad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deposits were due to anticorrosive additives of the fuel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igures 5 to 8 illustrate the condition of the blades. Figures 5 and 6 show the first rotor and stator of the compressor turbine, respectivel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deposits have the form of a uniform coat, which has partially cracked on the rotor blad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t of the deposit layer has been removed in the picture of the vanes, Fig. 6, to indicate the make more apparent the presence of the layer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3262320" y="504720"/>
            <a:ext cx="3371760" cy="25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1317240" y="3203280"/>
            <a:ext cx="7257960" cy="303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hile stator vanes of the power turbine are also covered by a more or less uniform coat of deposits, Figure 7, deposits on the rotor blades give a rougher surface, Figure 8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lthough the photos are taken using an ordinary camera, the layer of deposits is well discrimina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 corrective action was necessa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wo alternative approaches were considered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first one consisted in cleaning the blades while the later to perform geometry modificatio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manufacturer considers deposition as an unavoidable process, when oil is used as a fuel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uel oil treatment with additives is essential in order to increase ash melting point and thus minimise the risk of blade corrosion (Olsson et al 1968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 also alleges that this process is taking place during a small period during the beginning of the operation of the engine, when this layer is formed and thereafter no considerable changes are taking plac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refore, performance recovery was suggested to be based on component re-matching, resulting from the modification of the stagger angle of power turbine stator van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uch possibility was foreseen on this engine, in order to remedy situations as the present 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95059C-7E7A-474C-A732-FB81958D11C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5ACBA6-0288-4D86-B363-B700042FB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FDB020-984B-40EB-B405-3BF932BF6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796E5B-9CAC-4955-9774-D1D415FBA26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C6357F-D9E6-4052-880E-0CA533F8E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7BACB2-6D3D-46A7-B19F-557B460C0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F3A602-6950-4180-B293-D189C2A2C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030C40-9F22-4D38-92A4-9892FEBBC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58AA87-9A52-4927-A41F-2578599A9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8EA98F-E194-4D88-9CBA-DDAAD1ABA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6C4B44-7CD2-4312-BE5C-84AAC2C6B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797FCE-69AD-49C4-83A0-6727321AE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fd7ff"/>
            </a:gs>
            <a:gs pos="50000">
              <a:srgbClr val="ffffef"/>
            </a:gs>
            <a:gs pos="100000">
              <a:srgbClr val="afd7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5A904-4E0E-4A62-90FA-3D42A1A9199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838080"/>
            <a:ext cx="8331120" cy="0"/>
          </a:xfrm>
          <a:prstGeom prst="line">
            <a:avLst/>
          </a:prstGeom>
          <a:ln w="69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507960" y="6229440"/>
            <a:ext cx="8331120" cy="0"/>
          </a:xfrm>
          <a:prstGeom prst="line">
            <a:avLst/>
          </a:prstGeom>
          <a:ln w="69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fd7ff"/>
            </a:gs>
            <a:gs pos="50000">
              <a:srgbClr val="ffffef"/>
            </a:gs>
            <a:gs pos="100000">
              <a:srgbClr val="afd7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64800" y="1641600"/>
            <a:ext cx="4419720" cy="44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a50021"/>
                </a:solidFill>
                <a:latin typeface="Times New Roman"/>
              </a:rPr>
              <a:t>Gas Turbine (ABB GT1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184480" y="2157480"/>
            <a:ext cx="5246640" cy="3200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DA7C72-8601-4264-AA30-8A5410D3EE7A}" type="slidenum">
              <a:t>1</a:t>
            </a:fld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fd7ff"/>
            </a:gs>
            <a:gs pos="50000">
              <a:srgbClr val="ffffef"/>
            </a:gs>
            <a:gs pos="100000">
              <a:srgbClr val="afd7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" name=""/>
          <p:cNvGraphicFramePr/>
          <p:nvPr/>
        </p:nvGraphicFramePr>
        <p:xfrm>
          <a:off x="4584600" y="863640"/>
          <a:ext cx="2870280" cy="5308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4600" y="863640"/>
                    <a:ext cx="2870280" cy="530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" name=""/>
          <p:cNvGraphicFramePr/>
          <p:nvPr/>
        </p:nvGraphicFramePr>
        <p:xfrm>
          <a:off x="1539720" y="863640"/>
          <a:ext cx="3041640" cy="5308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39720" y="863640"/>
                    <a:ext cx="3041640" cy="530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002C6F-63D2-4DE5-BCB8-95629F4DACB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fd7ff"/>
            </a:gs>
            <a:gs pos="50000">
              <a:srgbClr val="ffffef"/>
            </a:gs>
            <a:gs pos="100000">
              <a:srgbClr val="afd7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" name=""/>
          <p:cNvGraphicFramePr/>
          <p:nvPr/>
        </p:nvGraphicFramePr>
        <p:xfrm>
          <a:off x="457200" y="1349280"/>
          <a:ext cx="8229600" cy="4388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349280"/>
                    <a:ext cx="8229600" cy="438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05D27B-8214-4BC4-8D05-21D1F9517B8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fd7ff"/>
            </a:gs>
            <a:gs pos="50000">
              <a:srgbClr val="ffffef"/>
            </a:gs>
            <a:gs pos="100000">
              <a:srgbClr val="afd7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" name=""/>
          <p:cNvGraphicFramePr/>
          <p:nvPr/>
        </p:nvGraphicFramePr>
        <p:xfrm>
          <a:off x="457200" y="1349280"/>
          <a:ext cx="8229600" cy="4388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349280"/>
                    <a:ext cx="8229600" cy="438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6813DF-C923-4A91-9E3F-DCACF40D645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fd7ff"/>
            </a:gs>
            <a:gs pos="50000">
              <a:srgbClr val="ffffef"/>
            </a:gs>
            <a:gs pos="100000">
              <a:srgbClr val="afd7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01680" y="2133720"/>
            <a:ext cx="4246560" cy="3425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2" name=""/>
          <p:cNvSpPr/>
          <p:nvPr/>
        </p:nvSpPr>
        <p:spPr>
          <a:xfrm>
            <a:off x="1989000" y="1101600"/>
            <a:ext cx="535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1717ff"/>
                </a:solidFill>
                <a:uFillTx/>
                <a:latin typeface="Times New Roman"/>
              </a:rPr>
              <a:t>Gas Generator Turbine 1</a:t>
            </a:r>
            <a:r>
              <a:rPr b="1" lang="en-GB" sz="2400" spc="-1" strike="noStrike" u="sng" baseline="30000">
                <a:solidFill>
                  <a:srgbClr val="1717ff"/>
                </a:solidFill>
                <a:uFillTx/>
                <a:latin typeface="Times New Roman"/>
              </a:rPr>
              <a:t>st</a:t>
            </a:r>
            <a:r>
              <a:rPr b="1" lang="en-GB" sz="2400" spc="-1" strike="noStrike" u="sng">
                <a:solidFill>
                  <a:srgbClr val="1717ff"/>
                </a:solidFill>
                <a:uFillTx/>
                <a:latin typeface="Times New Roman"/>
              </a:rPr>
              <a:t> rotor blad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4684680" y="2131920"/>
            <a:ext cx="4219560" cy="3427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BEAEAC-17DF-4064-8518-4674855E10A3}" type="slidenum">
              <a:t>2</a:t>
            </a:fld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fd7ff"/>
            </a:gs>
            <a:gs pos="50000">
              <a:srgbClr val="ffffef"/>
            </a:gs>
            <a:gs pos="100000">
              <a:srgbClr val="afd7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rcRect l="2153" t="1812" r="0" b="2761"/>
          <a:stretch/>
        </p:blipFill>
        <p:spPr>
          <a:xfrm>
            <a:off x="312840" y="2168640"/>
            <a:ext cx="4006800" cy="30416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609480" y="1360440"/>
            <a:ext cx="304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1717ff"/>
                </a:solidFill>
                <a:uFillTx/>
                <a:latin typeface="Times New Roman"/>
              </a:rPr>
              <a:t>Power Turbine 2nd Stator vanes detail</a:t>
            </a:r>
            <a:r>
              <a:rPr b="0" lang="en-GB" sz="1800" spc="-1" strike="noStrike">
                <a:solidFill>
                  <a:srgbClr val="1717ff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4648320" y="3311640"/>
            <a:ext cx="3695760" cy="23428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661120" y="5734080"/>
            <a:ext cx="629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717ff"/>
                </a:solidFill>
                <a:latin typeface="Times New Roman"/>
              </a:rPr>
              <a:t>Power Turbine 2nd Stator vanes. Leading edge pressure side view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D6EF69-CA82-4E61-93B2-5B8A69AA09E8}" type="slidenum">
              <a:t>3</a:t>
            </a:fld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fd7ff"/>
            </a:gs>
            <a:gs pos="50000">
              <a:srgbClr val="ffffef"/>
            </a:gs>
            <a:gs pos="100000">
              <a:srgbClr val="afd7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232000" y="1089000"/>
            <a:ext cx="4678560" cy="46785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7867CF-502F-4E46-BB5D-0B2043BD8BD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fd7ff"/>
            </a:gs>
            <a:gs pos="50000">
              <a:srgbClr val="ffffef"/>
            </a:gs>
            <a:gs pos="100000">
              <a:srgbClr val="afd7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62000" y="833400"/>
            <a:ext cx="8820000" cy="5191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9465AA-3B6C-4AD7-AC5D-37447DBB954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fd7ff"/>
            </a:gs>
            <a:gs pos="50000">
              <a:srgbClr val="ffffef"/>
            </a:gs>
            <a:gs pos="100000">
              <a:srgbClr val="afd7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"/>
          <p:cNvGraphicFramePr/>
          <p:nvPr/>
        </p:nvGraphicFramePr>
        <p:xfrm>
          <a:off x="1303200" y="944640"/>
          <a:ext cx="6537600" cy="5197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03200" y="944640"/>
                    <a:ext cx="6537600" cy="519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667F8F-AD3D-4D98-93FA-382AA4BAD7E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fd7ff"/>
            </a:gs>
            <a:gs pos="50000">
              <a:srgbClr val="ffffef"/>
            </a:gs>
            <a:gs pos="100000">
              <a:srgbClr val="afd7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"/>
          <p:cNvGraphicFramePr/>
          <p:nvPr/>
        </p:nvGraphicFramePr>
        <p:xfrm>
          <a:off x="1303200" y="944640"/>
          <a:ext cx="6537600" cy="5197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03200" y="944640"/>
                    <a:ext cx="6537600" cy="519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F595C6-34A3-40BF-9853-EDABB0ED981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fd7ff"/>
            </a:gs>
            <a:gs pos="50000">
              <a:srgbClr val="ffffef"/>
            </a:gs>
            <a:gs pos="100000">
              <a:srgbClr val="afd7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"/>
          <p:cNvGraphicFramePr/>
          <p:nvPr/>
        </p:nvGraphicFramePr>
        <p:xfrm>
          <a:off x="800280" y="998640"/>
          <a:ext cx="7543800" cy="514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00280" y="998640"/>
                    <a:ext cx="7543800" cy="514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76DEB0-EE2C-4B1D-BA9A-24D44B1D71C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fd7ff"/>
            </a:gs>
            <a:gs pos="50000">
              <a:srgbClr val="ffffef"/>
            </a:gs>
            <a:gs pos="100000">
              <a:srgbClr val="afd7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"/>
          <p:cNvGraphicFramePr/>
          <p:nvPr/>
        </p:nvGraphicFramePr>
        <p:xfrm>
          <a:off x="1828800" y="3298680"/>
          <a:ext cx="5486400" cy="292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3298680"/>
                    <a:ext cx="5486400" cy="292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" name=""/>
          <p:cNvGraphicFramePr/>
          <p:nvPr/>
        </p:nvGraphicFramePr>
        <p:xfrm>
          <a:off x="1828800" y="830160"/>
          <a:ext cx="5486400" cy="2784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28800" y="830160"/>
                    <a:ext cx="5486400" cy="27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8E5C99-E030-4B66-B5DC-859FBA69973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1T15:13:03Z</dcterms:created>
  <dc:creator>cristof</dc:creator>
  <dc:description/>
  <dc:language>en-US</dc:language>
  <cp:lastModifiedBy>diem039</cp:lastModifiedBy>
  <dcterms:modified xsi:type="dcterms:W3CDTF">2004-10-15T06:28:15Z</dcterms:modified>
  <cp:revision>425</cp:revision>
  <dc:subject/>
  <dc:title>PowerPoint Presentation</dc:title>
</cp:coreProperties>
</file>