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288588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8340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54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8340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54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6168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925480" y="622620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D9FA-4D96-4A76-B9A2-0918F6B12436}" type="slidenum">
              <a:rPr b="1" lang="it-IT" sz="18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64680" y="176040"/>
            <a:ext cx="274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b00e4"/>
                </a:solidFill>
                <a:latin typeface="Arial"/>
              </a:rPr>
              <a:t>ASME Turbo EXPO‘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436760" y="874800"/>
            <a:ext cx="7493040" cy="1076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 SET-UP FOR 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20160" y="3449520"/>
            <a:ext cx="6786360" cy="21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. Bettocchi        P. R. S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Dipartimento di Ingegneria - Università di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Via Saragat, 1 - 44100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86640" y="733320"/>
            <a:ext cx="4752000" cy="33807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1) pressure at the compressor in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2) press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3) pressure 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4) temperat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5) temperature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6) electrical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7) rotational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1) IGV angular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2) fuel mass flo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3) ambient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4) ambient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6440" y="1752480"/>
            <a:ext cx="4711680" cy="45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12240" y="690480"/>
            <a:ext cx="316080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17720" y="1814400"/>
            <a:ext cx="8472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 models obtained starting from differential and algebraic non-linear equations of physical model, linearizing and transforming them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ctual case (27 equa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ization around the same oper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ransformation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reduction of the number of equations substituting the non-measured variables with the measured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751120" y="939960"/>
            <a:ext cx="5245200" cy="43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94480" y="385920"/>
            <a:ext cx="25711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7040" y="139068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446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2424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02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51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01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50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9972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7040" y="236232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953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527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5360" y="165420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44152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176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210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496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84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27800" y="167940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26440" y="167940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772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668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956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242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735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2284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726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232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265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7216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219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19160" y="4557600"/>
            <a:ext cx="8472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first column of the matrix is equal to the l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zero-threshold fault isolation is not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7040" y="222876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446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24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02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51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01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50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9972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7040" y="32004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53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527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5360" y="24922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2796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7176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10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496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84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2780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26440" y="251784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772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668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56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242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2284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726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232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3265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7216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4219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36760" y="693720"/>
            <a:ext cx="7572240" cy="870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six models in respect to  ambient temperature 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8994600" y="1930320"/>
            <a:ext cx="115920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45720" y="1930320"/>
            <a:ext cx="105696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17720" y="158580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 lim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quires the analytical linearization of physical law equ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mplicates some operations necessary to  generate an incidence matrix allowing th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15880" y="995400"/>
            <a:ext cx="395496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17720" y="2500200"/>
            <a:ext cx="84722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system identification simplifies the linearizatio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ameter calculation performed starting from time series of transient operating condition data, by means of statistical methods of 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8960" y="3871800"/>
            <a:ext cx="84740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rders [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number of parameters at denominator),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b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number of parameters at numerator) and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k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delay)] determined from the transformation in the z-domain of the differential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36640" y="1346040"/>
            <a:ext cx="6642360" cy="200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</p:pic>
      <p:sp>
        <p:nvSpPr>
          <p:cNvPr id="144" name=""/>
          <p:cNvSpPr/>
          <p:nvPr/>
        </p:nvSpPr>
        <p:spPr>
          <a:xfrm>
            <a:off x="3628440" y="436680"/>
            <a:ext cx="2874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69000" y="137484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48560" y="427032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41480" y="177840"/>
            <a:ext cx="5283000" cy="2971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041480" y="3149640"/>
            <a:ext cx="52959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08360" y="2305080"/>
            <a:ext cx="437364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62600" y="22924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5880" y="665280"/>
            <a:ext cx="9283680" cy="11862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ximum absolute values of residuals du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 approximation obtained by adjusting the model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ambient temperatures: 10-40 °C, load conditions: 70-100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26040" y="2500200"/>
            <a:ext cx="1236240" cy="33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79840" y="2576520"/>
            <a:ext cx="144180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9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2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6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5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67840" y="766800"/>
            <a:ext cx="25160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33560" y="1585800"/>
            <a:ext cx="8296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ire to reduce operating costs and improve overall reliability of gas turb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ossibility of diagnostic system set-up with lower and lower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57120" y="4695840"/>
            <a:ext cx="5350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Increasing interes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gas turbine fault dia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rot="16200000">
            <a:off x="4310640" y="3816360"/>
            <a:ext cx="825480" cy="520920"/>
          </a:xfrm>
          <a:prstGeom prst="rightArrow">
            <a:avLst>
              <a:gd name="adj1" fmla="val 50000"/>
              <a:gd name="adj2" fmla="val 79240"/>
            </a:avLst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27840" y="690480"/>
            <a:ext cx="5529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HIGH TRESHOLD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90440" y="1585800"/>
            <a:ext cx="816624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Non-zero response residuals due to model approximation and absence of measuremen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 +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 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residual vector are different from zero, even without sensor fault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, due to the model response error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38160" y="1738440"/>
            <a:ext cx="8472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reshold must be fixed for each residual, according to the size of  maximum respons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ignature degradation phenomenon in the case of small faults (the presence of thresholds may determine that one or more residuals remain under the threshol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2.5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024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3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2320" y="1771560"/>
            <a:ext cx="890280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413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195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7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47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96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54568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320" y="2743200"/>
            <a:ext cx="8902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906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48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2080" y="20350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0200" y="28224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704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163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448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737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23080" y="20606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7240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23160" y="2060640"/>
            <a:ext cx="4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7724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620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909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6880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822400"/>
            <a:ext cx="3045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8678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185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6924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191772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777240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2945160" y="1220760"/>
            <a:ext cx="596880" cy="301320"/>
          </a:xfrm>
          <a:prstGeom prst="rightArrow">
            <a:avLst>
              <a:gd name="adj1" fmla="val 50000"/>
              <a:gd name="adj2" fmla="val 99053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rot="16200000">
            <a:off x="4924440" y="1219320"/>
            <a:ext cx="596880" cy="304560"/>
          </a:xfrm>
          <a:prstGeom prst="rightArrow">
            <a:avLst>
              <a:gd name="adj1" fmla="val 50000"/>
              <a:gd name="adj2" fmla="val 98000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81600" y="2289240"/>
            <a:ext cx="3867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models to make the high threshold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2120" y="1625760"/>
            <a:ext cx="431784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346440" y="6189840"/>
            <a:ext cx="25617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 DETECTION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0600" y="436680"/>
            <a:ext cx="1911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7040" y="1847880"/>
            <a:ext cx="977292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44600" y="18352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2424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020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3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85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75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467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2584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7040" y="34290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953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527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82840" y="1959120"/>
            <a:ext cx="165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Failed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51080" y="2438280"/>
            <a:ext cx="8691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360" y="195912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35082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46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0364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48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0600" y="2517840"/>
            <a:ext cx="637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3116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09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93280" y="2517840"/>
            <a:ext cx="40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0608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668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568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24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735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43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35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26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1856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709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501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334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908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33640" y="436680"/>
            <a:ext cx="24307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2440" y="1128600"/>
            <a:ext cx="918504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more suitable than system modeling for the model set-up in gas turbine sensor fault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With system modeling it is much more difficult to calculate values of parameters and carry out operations which are necessary for making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makes all parameter calculation and desensitization operations of the models quite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suitable for utilization in the cases in which system physical laws are 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91880" y="385920"/>
            <a:ext cx="30938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idual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4280" y="2768760"/>
          <a:ext cx="6248520" cy="33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4280" y="2768760"/>
                    <a:ext cx="6248520" cy="330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858960" y="173844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/0 linear model in the z-dom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8960" y="3643200"/>
            <a:ext cx="84740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y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out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u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in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faul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22440" y="36684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ity equa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76360" y="939960"/>
          <a:ext cx="8013600" cy="3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6360" y="939960"/>
                    <a:ext cx="8013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622440" y="158580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e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(z)</a:t>
            </a:r>
            <a:r>
              <a:rPr b="1" lang="it-IT" sz="20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: residual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19080" y="2089080"/>
            <a:ext cx="507492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input-output combined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 estim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physica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2440" y="4253040"/>
            <a:ext cx="847224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sensor fault vector (difference between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measured and computed val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easurement noise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model approx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9800" y="2692440"/>
          <a:ext cx="2514600" cy="34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9800" y="2692440"/>
                    <a:ext cx="2514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3040" y="3454560"/>
          <a:ext cx="2666880" cy="34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3040" y="3454560"/>
                    <a:ext cx="266688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41360" y="2019240"/>
          <a:ext cx="304812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360" y="2019240"/>
                    <a:ext cx="3048120" cy="457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41360" y="1357200"/>
            <a:ext cx="74376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nalytical Redundancy: utilizes 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Use of linear models to simplifie their set-up and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Great importance of the model set-up phase  (the threshold of uncertainty in fault detection depends on model accura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00200" y="112860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only (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, 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060560" y="1841400"/>
          <a:ext cx="513072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0560" y="1841400"/>
                    <a:ext cx="5130720" cy="355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700200" y="3338640"/>
            <a:ext cx="8474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01880" y="4470480"/>
          <a:ext cx="2082600" cy="29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1880" y="4470480"/>
                    <a:ext cx="2082600" cy="291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7720" y="189072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: consists in obtaining the I/O linear models by directly linearizing the physical law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: uses statistical methods to calculate model parameters from time series data measured on th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96160" y="843120"/>
            <a:ext cx="72374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34920" y="2195640"/>
            <a:ext cx="84740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alculation of residuals (differences between computed and measured values of the same vari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detection and isolation by means of the residu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1509840"/>
            <a:ext cx="8166240" cy="35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85800" indent="-685800" algn="ctr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vector (difference between measured and computed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easurement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trix of model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90440" y="1585800"/>
            <a:ext cx="81662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33600" y="766800"/>
            <a:ext cx="18943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38160" y="2195640"/>
            <a:ext cx="847260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and 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vector are substituted for value 0 or 1 on the basis of whether they are zero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ach column of the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the binary fault signature of the corresponding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called Fault Matrix or 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8160" y="900000"/>
            <a:ext cx="847260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Zero-threshold (deterministic ) fault iso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ll the incidence matrix columns must be different  from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ne model for each output measured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 with the maximum number of elements per columns (maximum number of  different fault signa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9T14:34:52Z</dcterms:created>
  <dc:creator>Michele Laus</dc:creator>
  <dc:description/>
  <dc:language>en-US</dc:language>
  <cp:lastModifiedBy>Macchine2</cp:lastModifiedBy>
  <cp:lastPrinted>1997-05-27T15:06:15Z</cp:lastPrinted>
  <dcterms:modified xsi:type="dcterms:W3CDTF">1997-06-12T10:05:58Z</dcterms:modified>
  <cp:revision>55</cp:revision>
  <dc:subject/>
  <dc:title>Nessun titolo diapositiva</dc:title>
</cp:coreProperties>
</file>