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13.jpeg" ContentType="image/jpeg"/>
  <Override PartName="/ppt/media/image27.jpeg" ContentType="image/jpeg"/>
  <Override PartName="/ppt/media/image19.jpeg" ContentType="image/jpeg"/>
  <Override PartName="/ppt/media/image6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24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29.jpeg" ContentType="image/jpeg"/>
  <Override PartName="/ppt/media/image10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5.wmf" ContentType="image/x-wmf"/>
  <Override PartName="/ppt/media/image16.jpeg" ContentType="image/jpeg"/>
  <Override PartName="/ppt/media/image18.jpeg" ContentType="image/jpeg"/>
  <Override PartName="/ppt/media/image21.jpeg" ContentType="image/jpeg"/>
  <Override PartName="/ppt/media/image23.jpeg" ContentType="image/jpeg"/>
  <Override PartName="/ppt/media/image2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403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00560" y="152388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8052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403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100560" y="3673440"/>
            <a:ext cx="2723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71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4560" y="367344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4560" y="1523880"/>
            <a:ext cx="4127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520" y="3673440"/>
            <a:ext cx="8458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3267-58DF-4F5F-80A0-BF6A4520AB9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8"/>
          <p:cNvSpPr/>
          <p:nvPr/>
        </p:nvSpPr>
        <p:spPr>
          <a:xfrm>
            <a:off x="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096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9"/>
          <p:cNvSpPr/>
          <p:nvPr/>
        </p:nvSpPr>
        <p:spPr>
          <a:xfrm>
            <a:off x="0" y="6781680"/>
            <a:ext cx="9144000" cy="7632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66720" indent="-19188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192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c207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c207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4191120"/>
            <a:ext cx="9144000" cy="4572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0" y="4571640"/>
            <a:ext cx="9144000" cy="56340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30960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M in NX Nastra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152B-1040-4889-9871-C394D9FF57C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7720" y="3276360"/>
            <a:ext cx="76820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LOAD1 or RLOAD2 statement that refer to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AREA   statements   (spatial definition of load   : A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2 TABLED1 statements (spectral definition C(f),D(f)   real/imag for RLOAD1,  amplitude/phase for R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election of dynamic loading with DLOAD case control statement (reference to RLOAD1 / 2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4"/>
              <p:cNvSpPr txBox="1"/>
              <p:nvPr/>
            </p:nvSpPr>
            <p:spPr>
              <a:xfrm>
                <a:off x="2590920" y="2438280"/>
                <a:ext cx="3674880" cy="4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fτ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Rectangle 5"/>
          <p:cNvSpPr/>
          <p:nvPr/>
        </p:nvSpPr>
        <p:spPr>
          <a:xfrm>
            <a:off x="762120" y="1523880"/>
            <a:ext cx="7681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ynam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87B1E-B9FA-40E1-9F86-E0DC2CAC26D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304560" y="22093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 constraint is the enforcement of a prescribed displacement on a single grid point or a set of poin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284400" indent="-28440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wo basic types of constraint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ingle point constraints (SPCs)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displacement (for example zero displacement ) to a single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ultiple point constraints (MPCs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2" marL="948600" indent="-18972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enforces a mathematical constraint relationship between one grid point and a set of grid poi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C088-C385-48BD-A345-687AA4D6D658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mode calculation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09480" y="24224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damped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 external fo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2066760" y="1633680"/>
          <a:ext cx="487872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6760" y="1633680"/>
                    <a:ext cx="487872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3962520" y="2438280"/>
                <a:ext cx="419076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3" name="Text Box 9"/>
          <p:cNvSpPr/>
          <p:nvPr/>
        </p:nvSpPr>
        <p:spPr>
          <a:xfrm>
            <a:off x="3886200" y="312408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3906720" y="3449520"/>
            <a:ext cx="5710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7" name="Text Box 21"/>
          <p:cNvSpPr/>
          <p:nvPr/>
        </p:nvSpPr>
        <p:spPr>
          <a:xfrm>
            <a:off x="762120" y="5318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anczos algorithm :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iterative procedure to determine a subset of m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08" name="Line 22"/>
          <p:cNvSpPr/>
          <p:nvPr/>
        </p:nvSpPr>
        <p:spPr>
          <a:xfrm>
            <a:off x="609480" y="5165640"/>
            <a:ext cx="7925040" cy="0"/>
          </a:xfrm>
          <a:prstGeom prst="line">
            <a:avLst/>
          </a:prstGeom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3"/>
              <p:cNvSpPr txBox="1"/>
              <p:nvPr/>
            </p:nvSpPr>
            <p:spPr>
              <a:xfrm>
                <a:off x="4343400" y="4495680"/>
                <a:ext cx="3200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M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0" name="Text Box 24"/>
          <p:cNvSpPr/>
          <p:nvPr/>
        </p:nvSpPr>
        <p:spPr>
          <a:xfrm>
            <a:off x="609480" y="411480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ode calculation =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tandard eigenvalue problem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1" name="AutoShape 25"/>
          <p:cNvSpPr/>
          <p:nvPr/>
        </p:nvSpPr>
        <p:spPr>
          <a:xfrm>
            <a:off x="3200400" y="266688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9999"/>
          </a:solidFill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FFF4-2281-4ED7-A34B-69B161A4D6C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357120" y="24638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1. direct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33360" y="4302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776160" y="28749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ving the FE matrix equation directly for the unknown nodal dof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17" name="AutoShape 7"/>
          <p:cNvSpPr/>
          <p:nvPr/>
        </p:nvSpPr>
        <p:spPr>
          <a:xfrm>
            <a:off x="3794040" y="1720800"/>
            <a:ext cx="4708440" cy="5907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18" name="Object 8"/>
          <p:cNvGraphicFramePr/>
          <p:nvPr/>
        </p:nvGraphicFramePr>
        <p:xfrm>
          <a:off x="3649680" y="172404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49680" y="172404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9"/>
          <p:cNvSpPr/>
          <p:nvPr/>
        </p:nvSpPr>
        <p:spPr>
          <a:xfrm>
            <a:off x="792000" y="32479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edicated large model solvers that fully benefit from matrix proper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789120" y="4788000"/>
            <a:ext cx="77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rojecting the original dofs onto a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798480" y="515952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at possibly leads to some substantial model size reduc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801720" y="360036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ck-substitution of result vector {p}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5" name="Text Box 16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58A4-76AA-41D8-8527-FB9B44FB7A6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152280" y="11430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0" name="AutoShape 5"/>
          <p:cNvSpPr/>
          <p:nvPr/>
        </p:nvSpPr>
        <p:spPr>
          <a:xfrm>
            <a:off x="4194000" y="1649520"/>
            <a:ext cx="4708800" cy="590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graphicFrame>
        <p:nvGraphicFramePr>
          <p:cNvPr id="231" name="Object 6"/>
          <p:cNvGraphicFramePr/>
          <p:nvPr/>
        </p:nvGraphicFramePr>
        <p:xfrm>
          <a:off x="4116240" y="1633680"/>
          <a:ext cx="487836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6240" y="1633680"/>
                    <a:ext cx="487836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Text Box 7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1. calculating the undamped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Object 9"/>
              <p:cNvSpPr txBox="1"/>
              <p:nvPr/>
            </p:nvSpPr>
            <p:spPr>
              <a:xfrm>
                <a:off x="2790720" y="2662200"/>
                <a:ext cx="296244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m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[</m:t>
                    </m:r>
                    <m:r>
                      <m:t xml:space="preserve">M</m:t>
                    </m:r>
                    <m:r>
                      <m:t xml:space="preserve">]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35" name="Text Box 10"/>
          <p:cNvSpPr/>
          <p:nvPr/>
        </p:nvSpPr>
        <p:spPr>
          <a:xfrm>
            <a:off x="3100320" y="3137040"/>
            <a:ext cx="455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frequencies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# modes = total # dofs n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6" name="Text Box 11"/>
          <p:cNvSpPr/>
          <p:nvPr/>
        </p:nvSpPr>
        <p:spPr>
          <a:xfrm>
            <a:off x="3121200" y="346248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: eigenmodes            </a:t>
            </a: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(each eigenvector has size (nx1)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7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8" name="Text Box 21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1139760" y="404028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2. projection of original dofs onto modal bas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9000" indent="-18900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2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67EF-C217-4A56-B962-72862815DFDC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3" name="Text Box 2"/>
          <p:cNvSpPr/>
          <p:nvPr/>
        </p:nvSpPr>
        <p:spPr>
          <a:xfrm>
            <a:off x="30492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Object 4"/>
              <p:cNvSpPr txBox="1"/>
              <p:nvPr/>
            </p:nvSpPr>
            <p:spPr>
              <a:xfrm>
                <a:off x="2475000" y="2722680"/>
                <a:ext cx="3732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K</m:t>
                                </m:r>
                              </m:e>
                            </m:acc>
                          </m:e>
                        </m:d>
                        <m:r>
                          <m:t xml:space="preserve">+</m:t>
                        </m:r>
                        <m:r>
                          <m:t xml:space="preserve">jω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C</m:t>
                                </m:r>
                              </m:e>
                            </m:acc>
                          </m:e>
                        </m:d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</m:d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5" name="Text Box 5"/>
          <p:cNvSpPr/>
          <p:nvPr/>
        </p:nvSpPr>
        <p:spPr>
          <a:xfrm>
            <a:off x="790560" y="177804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044720" y="2189160"/>
            <a:ext cx="73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3. construction of modal mode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529000" y="3295800"/>
            <a:ext cx="5709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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} :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x1)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vector of unknown modal participation factor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1947960" y="3697200"/>
                <a:ext cx="10825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9" name="Text Box 10"/>
          <p:cNvSpPr/>
          <p:nvPr/>
        </p:nvSpPr>
        <p:spPr>
          <a:xfrm>
            <a:off x="3711600" y="3828960"/>
            <a:ext cx="46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diagonal matrices due to mode orthogonality !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1093680" y="4695840"/>
            <a:ext cx="7372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4. solving modal model for unknown modal participation factors </a:t>
            </a:r>
            <a:r>
              <a:rPr b="0" i="1" lang="en-US" sz="1800" spc="-1" strike="noStrike">
                <a:solidFill>
                  <a:srgbClr val="0c2074"/>
                </a:solidFill>
                <a:latin typeface="Symbol"/>
                <a:ea typeface="Symbol"/>
              </a:rPr>
              <a:t>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096920" y="5135400"/>
            <a:ext cx="737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2.5. back-substitution of result vector into field variable approxim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2" name="AutoShape 14"/>
          <p:cNvSpPr/>
          <p:nvPr/>
        </p:nvSpPr>
        <p:spPr>
          <a:xfrm>
            <a:off x="2465280" y="2567160"/>
            <a:ext cx="3824280" cy="563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3" name="Text Box 17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04C8-F04F-4A93-A207-274BBD772FB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152280" y="112716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dynamic response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76160" y="1681200"/>
            <a:ext cx="73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2. modal solution method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033560" y="2195640"/>
            <a:ext cx="775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del size reduction: from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nxn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x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1582560" y="3075120"/>
            <a:ext cx="7751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=n : same accuracy is obtained with direct solution sequen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0" name="Text Box 7"/>
          <p:cNvSpPr/>
          <p:nvPr/>
        </p:nvSpPr>
        <p:spPr>
          <a:xfrm>
            <a:off x="1066680" y="2671920"/>
            <a:ext cx="7751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uracy depends on size of modal base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1579680" y="3467160"/>
            <a:ext cx="7751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f m</a:t>
            </a:r>
            <a:r>
              <a:rPr b="0" lang="en-US" sz="1600" spc="-1" strike="noStrike" baseline="-25000">
                <a:solidFill>
                  <a:srgbClr val="0c2074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&lt; n : possible gain in computational effort but loss in accurac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1760400" y="3941640"/>
            <a:ext cx="71424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‘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ule of thumb’: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reasonable accuracy at some frequency 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requires a modal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base 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t contains at least all modes with eigenfrequencies up to 2</a:t>
            </a:r>
            <a:r>
              <a:rPr b="0" i="1" lang="en-US" sz="1600" spc="-1" strike="noStrike">
                <a:solidFill>
                  <a:srgbClr val="0c2074"/>
                </a:solidFill>
                <a:latin typeface="Symbol"/>
                <a:ea typeface="Symbol"/>
              </a:rPr>
              <a:t>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3" name="Text Box 10"/>
          <p:cNvSpPr/>
          <p:nvPr/>
        </p:nvSpPr>
        <p:spPr>
          <a:xfrm>
            <a:off x="1897200" y="4873680"/>
            <a:ext cx="7142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mainly at low frequencies </a:t>
            </a:r>
            <a:r>
              <a:rPr b="0" i="1" lang="en-US" sz="1400" spc="-1" strike="noStrike">
                <a:solidFill>
                  <a:srgbClr val="0c2074"/>
                </a:solidFill>
                <a:latin typeface="Arial"/>
              </a:rPr>
              <a:t>(low modal density)</a:t>
            </a: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e required number of modes can be substantially small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c2074"/>
                </a:solidFill>
                <a:latin typeface="Arial"/>
              </a:rPr>
              <a:t>than the original number of degrees of freedom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1417680" y="5138640"/>
            <a:ext cx="500040" cy="266760"/>
          </a:xfrm>
          <a:prstGeom prst="rightArrow">
            <a:avLst>
              <a:gd name="adj1" fmla="val 50000"/>
              <a:gd name="adj2" fmla="val 46862"/>
            </a:avLst>
          </a:prstGeom>
          <a:solidFill>
            <a:srgbClr val="999999">
              <a:alpha val="50000"/>
            </a:srgbClr>
          </a:solidFill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6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95400" y="1143000"/>
            <a:ext cx="737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sequence for transient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8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Object 15"/>
              <p:cNvSpPr txBox="1"/>
              <p:nvPr/>
            </p:nvSpPr>
            <p:spPr>
              <a:xfrm>
                <a:off x="2057400" y="1676520"/>
                <a:ext cx="4876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M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acc>
                          <m:accPr>
                            <m:chr m:val="¨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BE73-A5CF-4B3F-895C-376C5148D42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verview of some NASTRAN solution sequences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1 : linear static analysi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3 : normal modes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7 / 110 : complex modes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8 / 111 : frequency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 109 / 112 : transient response (direct/ modal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106 : non-linear statics followed by normal mod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OL 200 : Design sensitivity and optimiz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7791480" y="1127160"/>
            <a:ext cx="104760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olve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B323-D4A4-4AA3-A2AF-452C7936AF1E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228600" y="175248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7" name="Line 5"/>
          <p:cNvSpPr/>
          <p:nvPr/>
        </p:nvSpPr>
        <p:spPr>
          <a:xfrm>
            <a:off x="3618000" y="243216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8" name="Line 6"/>
          <p:cNvSpPr/>
          <p:nvPr/>
        </p:nvSpPr>
        <p:spPr>
          <a:xfrm>
            <a:off x="5033880" y="244620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2895480" y="281952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5411880" y="281952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2895480" y="31114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2679840" y="33908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81640" y="33926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4" name="Text Box 12"/>
          <p:cNvSpPr/>
          <p:nvPr/>
        </p:nvSpPr>
        <p:spPr>
          <a:xfrm>
            <a:off x="5394240" y="312588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5" name="Text Box 13"/>
          <p:cNvSpPr/>
          <p:nvPr/>
        </p:nvSpPr>
        <p:spPr>
          <a:xfrm>
            <a:off x="3403440" y="3606840"/>
            <a:ext cx="86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6" name="Text Box 14"/>
          <p:cNvSpPr/>
          <p:nvPr/>
        </p:nvSpPr>
        <p:spPr>
          <a:xfrm>
            <a:off x="5962680" y="358308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7" name="Rectangle 1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8" name="Text Box 16"/>
          <p:cNvSpPr/>
          <p:nvPr/>
        </p:nvSpPr>
        <p:spPr>
          <a:xfrm>
            <a:off x="6953400" y="1127160"/>
            <a:ext cx="21142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ost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89" name="Text Box 17"/>
          <p:cNvSpPr/>
          <p:nvPr/>
        </p:nvSpPr>
        <p:spPr>
          <a:xfrm>
            <a:off x="457200" y="4648320"/>
            <a:ext cx="8402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! secondary variable approximations are less accurate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then primary variable approximations !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7858-C719-4F66-82A2-8AF00F152953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496800" y="1060560"/>
            <a:ext cx="737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re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esh generation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defin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definition of loads and boundary condition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542880" y="3322800"/>
            <a:ext cx="8402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postprocess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visualisation and analysis of resul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(primary and secondary field variables)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25600" y="2413080"/>
            <a:ext cx="737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ving: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solving the (linear) set of equation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>
            <a:off x="3919680" y="4241880"/>
            <a:ext cx="0" cy="42696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5335560" y="4255920"/>
            <a:ext cx="982800" cy="330480"/>
          </a:xfrm>
          <a:prstGeom prst="line">
            <a:avLst/>
          </a:prstGeom>
          <a:ln w="9360">
            <a:solidFill>
              <a:srgbClr val="0c207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197160" y="462924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placement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713560" y="462924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ress/strai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197160" y="49212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emperat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2981160" y="520056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oustic pressure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5683320" y="5202360"/>
            <a:ext cx="24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elocity/intens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5695920" y="4935600"/>
            <a:ext cx="247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heat flux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705120" y="541656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264360" y="5392800"/>
            <a:ext cx="8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4" name="Rectangle 17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5" name="Rectangle 18"/>
          <p:cNvSpPr/>
          <p:nvPr/>
        </p:nvSpPr>
        <p:spPr>
          <a:xfrm>
            <a:off x="5029200" y="1066680"/>
            <a:ext cx="396252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4648320" y="105732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compon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9F66-E9AF-4FBB-84AF-4ED789100C1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How to read</a:t>
            </a:r>
            <a:br>
              <a:rPr sz="2000"/>
            </a:b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 a nastran fi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4" descr=""/>
          <p:cNvPicPr/>
          <p:nvPr/>
        </p:nvPicPr>
        <p:blipFill>
          <a:blip r:embed="rId1"/>
          <a:srcRect l="25001" t="20001" r="35626" b="8999"/>
          <a:stretch/>
        </p:blipFill>
        <p:spPr>
          <a:xfrm>
            <a:off x="3059280" y="0"/>
            <a:ext cx="6084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3"/>
          <p:cNvSpPr/>
          <p:nvPr/>
        </p:nvSpPr>
        <p:spPr>
          <a:xfrm>
            <a:off x="1031760" y="364824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discret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022400" y="186840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idealiza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425520" y="1257480"/>
            <a:ext cx="784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FE modeller has a determining impact on prediction accurac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1085760" y="4756320"/>
            <a:ext cx="31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solution error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311120" y="2165400"/>
            <a:ext cx="72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underlying mathematical model   (avoid singularities 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1311120" y="24638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boundary condition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1325520" y="297504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ppropriate material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0" name="Text Box 10"/>
          <p:cNvSpPr/>
          <p:nvPr/>
        </p:nvSpPr>
        <p:spPr>
          <a:xfrm>
            <a:off x="1327320" y="4033800"/>
            <a:ext cx="7516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esh quality: balance between accuracy and computational load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CPU and memory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1" name="Text Box 11"/>
          <p:cNvSpPr/>
          <p:nvPr/>
        </p:nvSpPr>
        <p:spPr>
          <a:xfrm>
            <a:off x="1316160" y="5037120"/>
            <a:ext cx="75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hoice of solver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2" name="Text Box 12"/>
          <p:cNvSpPr/>
          <p:nvPr/>
        </p:nvSpPr>
        <p:spPr>
          <a:xfrm>
            <a:off x="1319040" y="2739960"/>
            <a:ext cx="61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representative load modell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3" name="Rectangle 14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452520" y="1208160"/>
            <a:ext cx="610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void singular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031760" y="376704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stress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031760" y="48466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displacement singularitie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07" name="Picture 6" descr="tab42"/>
          <p:cNvPicPr/>
          <p:nvPr/>
        </p:nvPicPr>
        <p:blipFill>
          <a:blip r:embed="rId1"/>
          <a:stretch/>
        </p:blipFill>
        <p:spPr>
          <a:xfrm>
            <a:off x="2560680" y="1725480"/>
            <a:ext cx="4089240" cy="1852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7"/>
          <p:cNvSpPr/>
          <p:nvPr/>
        </p:nvSpPr>
        <p:spPr>
          <a:xfrm>
            <a:off x="1335240" y="4173480"/>
            <a:ext cx="724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.g. stress at sharp re-entrant corn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467000" y="5157720"/>
            <a:ext cx="759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int (in 2D) or edge (in 3D) connections cannot withstand reaction forces (e.g. spotwelds !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CAD geometry </a:t>
            </a:r>
            <a:r>
              <a:rPr b="1" i="1" lang="en-US" sz="2000" spc="-1" strike="noStrike">
                <a:solidFill>
                  <a:srgbClr val="0c2074"/>
                </a:solidFill>
                <a:latin typeface="Symbol"/>
                <a:ea typeface="Symbol"/>
              </a:rPr>
              <a:t>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FE 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787320" y="1541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prior to meshing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1373040" y="183996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defeatu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1415880" y="217800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dealization  (e.g. shell versus soli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405080" y="24796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clean-up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16" name="Picture 8" descr="f93"/>
          <p:cNvPicPr/>
          <p:nvPr/>
        </p:nvPicPr>
        <p:blipFill>
          <a:blip r:embed="rId1"/>
          <a:stretch/>
        </p:blipFill>
        <p:spPr>
          <a:xfrm>
            <a:off x="6068880" y="1076400"/>
            <a:ext cx="2624400" cy="15174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9" descr="f94"/>
          <p:cNvPicPr/>
          <p:nvPr/>
        </p:nvPicPr>
        <p:blipFill>
          <a:blip r:embed="rId2"/>
          <a:stretch/>
        </p:blipFill>
        <p:spPr>
          <a:xfrm>
            <a:off x="6060960" y="2658960"/>
            <a:ext cx="2835360" cy="14558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0" descr="f97"/>
          <p:cNvPicPr/>
          <p:nvPr/>
        </p:nvPicPr>
        <p:blipFill>
          <a:blip r:embed="rId3"/>
          <a:stretch/>
        </p:blipFill>
        <p:spPr>
          <a:xfrm>
            <a:off x="388800" y="3886200"/>
            <a:ext cx="2827440" cy="20923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1" descr="f98"/>
          <p:cNvPicPr/>
          <p:nvPr/>
        </p:nvPicPr>
        <p:blipFill>
          <a:blip r:embed="rId4"/>
          <a:stretch/>
        </p:blipFill>
        <p:spPr>
          <a:xfrm>
            <a:off x="3403440" y="3740040"/>
            <a:ext cx="2862360" cy="215280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3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mbr4-4"/>
          <p:cNvPicPr/>
          <p:nvPr/>
        </p:nvPicPr>
        <p:blipFill>
          <a:blip r:embed="rId1"/>
          <a:srcRect l="0" t="0" r="0" b="6905"/>
          <a:stretch/>
        </p:blipFill>
        <p:spPr>
          <a:xfrm>
            <a:off x="4759200" y="1030320"/>
            <a:ext cx="3859200" cy="4894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934920" y="2133720"/>
            <a:ext cx="3740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order p …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       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low distortion allow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55800" y="3070080"/>
            <a:ext cx="429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automatic mesher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6" name="Text Box 8"/>
          <p:cNvSpPr/>
          <p:nvPr/>
        </p:nvSpPr>
        <p:spPr>
          <a:xfrm>
            <a:off x="946080" y="3517920"/>
            <a:ext cx="429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watch out with morph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353880" y="151452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avoid distorted elements 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0" name="Picture 5" descr="f513"/>
          <p:cNvPicPr/>
          <p:nvPr/>
        </p:nvPicPr>
        <p:blipFill>
          <a:blip r:embed="rId1"/>
          <a:stretch/>
        </p:blipFill>
        <p:spPr>
          <a:xfrm>
            <a:off x="873000" y="2004840"/>
            <a:ext cx="3019680" cy="1919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f514"/>
          <p:cNvPicPr/>
          <p:nvPr/>
        </p:nvPicPr>
        <p:blipFill>
          <a:blip r:embed="rId2"/>
          <a:stretch/>
        </p:blipFill>
        <p:spPr>
          <a:xfrm>
            <a:off x="4605480" y="1849320"/>
            <a:ext cx="2668320" cy="232596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f515"/>
          <p:cNvPicPr/>
          <p:nvPr/>
        </p:nvPicPr>
        <p:blipFill>
          <a:blip r:embed="rId3"/>
          <a:stretch/>
        </p:blipFill>
        <p:spPr>
          <a:xfrm>
            <a:off x="3071880" y="4475160"/>
            <a:ext cx="2538360" cy="12906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981000" y="1585800"/>
            <a:ext cx="494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avoid mesh incompatibili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6" name="Picture 5" descr="f5859"/>
          <p:cNvPicPr/>
          <p:nvPr/>
        </p:nvPicPr>
        <p:blipFill>
          <a:blip r:embed="rId1"/>
          <a:stretch/>
        </p:blipFill>
        <p:spPr>
          <a:xfrm>
            <a:off x="1066680" y="2093760"/>
            <a:ext cx="4187880" cy="1252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f510"/>
          <p:cNvPicPr/>
          <p:nvPr/>
        </p:nvPicPr>
        <p:blipFill>
          <a:blip r:embed="rId2"/>
          <a:stretch/>
        </p:blipFill>
        <p:spPr>
          <a:xfrm>
            <a:off x="990720" y="3809880"/>
            <a:ext cx="4059000" cy="137160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7"/>
          <p:cNvSpPr/>
          <p:nvPr/>
        </p:nvSpPr>
        <p:spPr>
          <a:xfrm>
            <a:off x="1711440" y="5403960"/>
            <a:ext cx="649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Times New Roman"/>
              </a:rPr>
              <a:t>induce master/slave relations … no reliable stress evaluation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39" name="Picture 8" descr="f511"/>
          <p:cNvPicPr/>
          <p:nvPr/>
        </p:nvPicPr>
        <p:blipFill>
          <a:blip r:embed="rId3"/>
          <a:stretch/>
        </p:blipFill>
        <p:spPr>
          <a:xfrm>
            <a:off x="6248520" y="2590920"/>
            <a:ext cx="2146320" cy="192564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3" descr="f33"/>
          <p:cNvPicPr/>
          <p:nvPr/>
        </p:nvPicPr>
        <p:blipFill>
          <a:blip r:embed="rId1"/>
          <a:stretch/>
        </p:blipFill>
        <p:spPr>
          <a:xfrm>
            <a:off x="693720" y="1062000"/>
            <a:ext cx="3236760" cy="1505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f34"/>
          <p:cNvPicPr/>
          <p:nvPr/>
        </p:nvPicPr>
        <p:blipFill>
          <a:blip r:embed="rId2"/>
          <a:stretch/>
        </p:blipFill>
        <p:spPr>
          <a:xfrm>
            <a:off x="5160960" y="1092240"/>
            <a:ext cx="2987640" cy="153684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5" descr="f35"/>
          <p:cNvPicPr/>
          <p:nvPr/>
        </p:nvPicPr>
        <p:blipFill>
          <a:blip r:embed="rId3"/>
          <a:stretch/>
        </p:blipFill>
        <p:spPr>
          <a:xfrm>
            <a:off x="495360" y="3181320"/>
            <a:ext cx="3905280" cy="2378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6" descr="f36"/>
          <p:cNvPicPr/>
          <p:nvPr/>
        </p:nvPicPr>
        <p:blipFill>
          <a:blip r:embed="rId4"/>
          <a:stretch/>
        </p:blipFill>
        <p:spPr>
          <a:xfrm>
            <a:off x="4867200" y="3178080"/>
            <a:ext cx="3905280" cy="239580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7"/>
          <p:cNvSpPr/>
          <p:nvPr/>
        </p:nvSpPr>
        <p:spPr>
          <a:xfrm>
            <a:off x="266760" y="2567160"/>
            <a:ext cx="4341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thin hollow plat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tensile load – constrained at left sid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5278320" y="27068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first-order triangular elemen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1098720" y="553392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773680" y="555480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f41"/>
          <p:cNvPicPr/>
          <p:nvPr/>
        </p:nvPicPr>
        <p:blipFill>
          <a:blip r:embed="rId1"/>
          <a:stretch/>
        </p:blipFill>
        <p:spPr>
          <a:xfrm>
            <a:off x="549360" y="1130400"/>
            <a:ext cx="3776400" cy="2263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f42"/>
          <p:cNvPicPr/>
          <p:nvPr/>
        </p:nvPicPr>
        <p:blipFill>
          <a:blip r:embed="rId2"/>
          <a:stretch/>
        </p:blipFill>
        <p:spPr>
          <a:xfrm>
            <a:off x="4994280" y="1127160"/>
            <a:ext cx="3683160" cy="221436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5" descr="f43"/>
          <p:cNvPicPr/>
          <p:nvPr/>
        </p:nvPicPr>
        <p:blipFill>
          <a:blip r:embed="rId3"/>
          <a:stretch/>
        </p:blipFill>
        <p:spPr>
          <a:xfrm>
            <a:off x="520560" y="3424320"/>
            <a:ext cx="3749760" cy="2289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f44"/>
          <p:cNvPicPr/>
          <p:nvPr/>
        </p:nvPicPr>
        <p:blipFill>
          <a:blip r:embed="rId4"/>
          <a:stretch/>
        </p:blipFill>
        <p:spPr>
          <a:xfrm>
            <a:off x="4997520" y="3576600"/>
            <a:ext cx="3583080" cy="2200320"/>
          </a:xfrm>
          <a:prstGeom prst="rect">
            <a:avLst/>
          </a:prstGeom>
          <a:ln w="0">
            <a:noFill/>
          </a:ln>
        </p:spPr>
      </p:pic>
      <p:sp>
        <p:nvSpPr>
          <p:cNvPr id="354" name="Text Box 7"/>
          <p:cNvSpPr/>
          <p:nvPr/>
        </p:nvSpPr>
        <p:spPr>
          <a:xfrm>
            <a:off x="1098720" y="5603760"/>
            <a:ext cx="27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horizontal displacement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5" name="Text Box 8"/>
          <p:cNvSpPr/>
          <p:nvPr/>
        </p:nvSpPr>
        <p:spPr>
          <a:xfrm>
            <a:off x="5773680" y="5624640"/>
            <a:ext cx="278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Times New Roman"/>
              </a:rPr>
              <a:t>von Mises stress (p=1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353880" y="1127160"/>
            <a:ext cx="755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c2074"/>
                </a:solidFill>
                <a:latin typeface="Arial"/>
              </a:rPr>
              <a:t>appropriate mesh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795240" y="157644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Times New Roman"/>
              </a:rPr>
              <a:t>solids for bend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59" name="Picture 5" descr="f912"/>
          <p:cNvPicPr/>
          <p:nvPr/>
        </p:nvPicPr>
        <p:blipFill>
          <a:blip r:embed="rId1"/>
          <a:stretch/>
        </p:blipFill>
        <p:spPr>
          <a:xfrm>
            <a:off x="3227400" y="1371600"/>
            <a:ext cx="5470560" cy="32511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3933720" y="4537080"/>
            <a:ext cx="311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 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6637320" y="452448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cc33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practical iss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363" name="Picture 10" descr="f518"/>
          <p:cNvPicPr/>
          <p:nvPr/>
        </p:nvPicPr>
        <p:blipFill>
          <a:blip r:embed="rId2"/>
          <a:stretch/>
        </p:blipFill>
        <p:spPr>
          <a:xfrm>
            <a:off x="533520" y="4343400"/>
            <a:ext cx="2895480" cy="1658880"/>
          </a:xfrm>
          <a:prstGeom prst="rect">
            <a:avLst/>
          </a:prstGeom>
          <a:ln w="0">
            <a:noFill/>
          </a:ln>
        </p:spPr>
      </p:pic>
      <p:sp>
        <p:nvSpPr>
          <p:cNvPr id="364" name="Line 12"/>
          <p:cNvSpPr/>
          <p:nvPr/>
        </p:nvSpPr>
        <p:spPr>
          <a:xfrm flipH="1">
            <a:off x="3657600" y="4952880"/>
            <a:ext cx="53352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923F-1904-4E90-86EB-A3617D6EED5B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1880" y="1752480"/>
            <a:ext cx="771228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co-ordinate system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geometric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loads and constrai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609480" y="48769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c2074"/>
                </a:solidFill>
                <a:latin typeface="Arial"/>
              </a:rPr>
              <a:t>illustration for NASTRAN (NAsa SRTuctural ANalysi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685800" y="1905120"/>
            <a:ext cx="152280" cy="236196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421400" cy="685800"/>
          </a:xfrm>
          <a:prstGeom prst="rect">
            <a:avLst/>
          </a:prstGeom>
          <a:noFill/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590400" y="10476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numerical modelling techniqu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604800" y="261936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mesh generation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630360" y="494172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data management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635040" y="414828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c2074"/>
                </a:solidFill>
                <a:latin typeface="Arial"/>
              </a:rPr>
              <a:t>computer resourc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0" name="Text Box 7"/>
          <p:cNvSpPr/>
          <p:nvPr/>
        </p:nvSpPr>
        <p:spPr>
          <a:xfrm>
            <a:off x="1238400" y="13622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hanced computational efficienc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1" name="Text Box 8"/>
          <p:cNvSpPr/>
          <p:nvPr/>
        </p:nvSpPr>
        <p:spPr>
          <a:xfrm>
            <a:off x="1247760" y="162864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ccount for variability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258920" y="225756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271520" y="30337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utomatio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1262160" y="329256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(multi-physics) compatibility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1262160" y="356868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re-use of model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1319040" y="520704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xchange, shar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1319040" y="5473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nterpreting, min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8" name="Text Box 15"/>
          <p:cNvSpPr/>
          <p:nvPr/>
        </p:nvSpPr>
        <p:spPr>
          <a:xfrm>
            <a:off x="1325520" y="56736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79" name="Text Box 16"/>
          <p:cNvSpPr/>
          <p:nvPr/>
        </p:nvSpPr>
        <p:spPr>
          <a:xfrm>
            <a:off x="1281240" y="471312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380" name="Text Box 17"/>
          <p:cNvSpPr/>
          <p:nvPr/>
        </p:nvSpPr>
        <p:spPr>
          <a:xfrm>
            <a:off x="1290600" y="4441680"/>
            <a:ext cx="771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rallel computing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grpSp>
        <p:nvGrpSpPr>
          <p:cNvPr id="381" name="Group 18"/>
          <p:cNvGrpSpPr/>
          <p:nvPr/>
        </p:nvGrpSpPr>
        <p:grpSpPr>
          <a:xfrm>
            <a:off x="5570640" y="1047600"/>
            <a:ext cx="3236760" cy="4496040"/>
            <a:chOff x="5570640" y="1047600"/>
            <a:chExt cx="3236760" cy="4496040"/>
          </a:xfrm>
        </p:grpSpPr>
        <p:grpSp>
          <p:nvGrpSpPr>
            <p:cNvPr id="382" name="Group 19"/>
            <p:cNvGrpSpPr/>
            <p:nvPr/>
          </p:nvGrpSpPr>
          <p:grpSpPr>
            <a:xfrm>
              <a:off x="5570640" y="1047600"/>
              <a:ext cx="3236760" cy="4496040"/>
              <a:chOff x="5570640" y="1047600"/>
              <a:chExt cx="3236760" cy="4496040"/>
            </a:xfrm>
          </p:grpSpPr>
          <p:sp>
            <p:nvSpPr>
              <p:cNvPr id="383" name="Rectangle 20"/>
              <p:cNvSpPr/>
              <p:nvPr/>
            </p:nvSpPr>
            <p:spPr>
              <a:xfrm>
                <a:off x="5570640" y="1047600"/>
                <a:ext cx="3236760" cy="44960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grpSp>
            <p:nvGrpSpPr>
              <p:cNvPr id="384" name="Group 21"/>
              <p:cNvGrpSpPr/>
              <p:nvPr/>
            </p:nvGrpSpPr>
            <p:grpSpPr>
              <a:xfrm>
                <a:off x="5666760" y="1170000"/>
                <a:ext cx="2633040" cy="4297680"/>
                <a:chOff x="5666760" y="1170000"/>
                <a:chExt cx="2633040" cy="4297680"/>
              </a:xfrm>
            </p:grpSpPr>
            <p:sp>
              <p:nvSpPr>
                <p:cNvPr id="385" name="Rectangle 22"/>
                <p:cNvSpPr/>
                <p:nvPr/>
              </p:nvSpPr>
              <p:spPr>
                <a:xfrm>
                  <a:off x="5919480" y="4910040"/>
                  <a:ext cx="82080" cy="93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6" name="Rectangle 23"/>
                <p:cNvSpPr/>
                <p:nvPr/>
              </p:nvSpPr>
              <p:spPr>
                <a:xfrm>
                  <a:off x="6008040" y="4861800"/>
                  <a:ext cx="9424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Data transfer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7" name="Rectangle 24"/>
                <p:cNvSpPr/>
                <p:nvPr/>
              </p:nvSpPr>
              <p:spPr>
                <a:xfrm>
                  <a:off x="5919480" y="5117040"/>
                  <a:ext cx="82080" cy="936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8" name="Rectangle 25"/>
                <p:cNvSpPr/>
                <p:nvPr/>
              </p:nvSpPr>
              <p:spPr>
                <a:xfrm>
                  <a:off x="6019560" y="5076360"/>
                  <a:ext cx="7048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eshing  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89" name="Rectangle 26"/>
                <p:cNvSpPr/>
                <p:nvPr/>
              </p:nvSpPr>
              <p:spPr>
                <a:xfrm>
                  <a:off x="5919480" y="5325840"/>
                  <a:ext cx="82080" cy="9324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0" name="Rectangle 27"/>
                <p:cNvSpPr/>
                <p:nvPr/>
              </p:nvSpPr>
              <p:spPr>
                <a:xfrm>
                  <a:off x="6016320" y="5284800"/>
                  <a:ext cx="6696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Modeling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1" name="Rectangle 28"/>
                <p:cNvSpPr/>
                <p:nvPr/>
              </p:nvSpPr>
              <p:spPr>
                <a:xfrm>
                  <a:off x="7260120" y="4908600"/>
                  <a:ext cx="82080" cy="9324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2" name="Rectangle 29"/>
                <p:cNvSpPr/>
                <p:nvPr/>
              </p:nvSpPr>
              <p:spPr>
                <a:xfrm>
                  <a:off x="7367040" y="4861800"/>
                  <a:ext cx="5540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Solver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3" name="Rectangle 30"/>
                <p:cNvSpPr/>
                <p:nvPr/>
              </p:nvSpPr>
              <p:spPr>
                <a:xfrm>
                  <a:off x="7260120" y="5117040"/>
                  <a:ext cx="82080" cy="9180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4" name="Rectangle 31"/>
                <p:cNvSpPr/>
                <p:nvPr/>
              </p:nvSpPr>
              <p:spPr>
                <a:xfrm>
                  <a:off x="7331400" y="5074920"/>
                  <a:ext cx="96840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Post-process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5" name="Rectangle 32"/>
                <p:cNvSpPr/>
                <p:nvPr/>
              </p:nvSpPr>
              <p:spPr>
                <a:xfrm>
                  <a:off x="7260120" y="5324040"/>
                  <a:ext cx="82080" cy="936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33"/>
                <p:cNvSpPr/>
                <p:nvPr/>
              </p:nvSpPr>
              <p:spPr>
                <a:xfrm>
                  <a:off x="7372080" y="5284800"/>
                  <a:ext cx="83124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Refinement</a:t>
                  </a:r>
                  <a:endParaRPr b="0" lang="en-US" sz="12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4"/>
                <p:cNvSpPr/>
                <p:nvPr/>
              </p:nvSpPr>
              <p:spPr>
                <a:xfrm>
                  <a:off x="5879160" y="406260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0" y="172"/>
                      </a:moveTo>
                      <a:lnTo>
                        <a:pt x="227" y="0"/>
                      </a:lnTo>
                      <a:lnTo>
                        <a:pt x="1547" y="0"/>
                      </a:lnTo>
                      <a:lnTo>
                        <a:pt x="1320" y="172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5"/>
                <p:cNvSpPr/>
                <p:nvPr/>
              </p:nvSpPr>
              <p:spPr>
                <a:xfrm>
                  <a:off x="5879160" y="1468800"/>
                  <a:ext cx="353160" cy="2881800"/>
                </a:xfrm>
                <a:custGeom>
                  <a:avLst/>
                  <a:gdLst/>
                  <a:ahLst/>
                  <a:rect l="l" t="t" r="r" b="b"/>
                  <a:pathLst>
                    <a:path w="227" h="1718">
                      <a:moveTo>
                        <a:pt x="0" y="1718"/>
                      </a:move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227" y="1546"/>
                      </a:lnTo>
                      <a:lnTo>
                        <a:pt x="0" y="17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399" name="Rectangle 36"/>
                <p:cNvSpPr/>
                <p:nvPr/>
              </p:nvSpPr>
              <p:spPr>
                <a:xfrm>
                  <a:off x="6232680" y="1468800"/>
                  <a:ext cx="2055960" cy="2593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3b"/>
                    </a:gs>
                    <a:gs pos="100000">
                      <a:srgbClr val="000080"/>
                    </a:gs>
                  </a:gsLst>
                  <a:lin ang="0"/>
                </a:gradFill>
                <a:ln w="936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37"/>
                <p:cNvSpPr/>
                <p:nvPr/>
              </p:nvSpPr>
              <p:spPr>
                <a:xfrm>
                  <a:off x="5879160" y="355788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38"/>
                <p:cNvSpPr/>
                <p:nvPr/>
              </p:nvSpPr>
              <p:spPr>
                <a:xfrm>
                  <a:off x="5879160" y="303984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39"/>
                <p:cNvSpPr/>
                <p:nvPr/>
              </p:nvSpPr>
              <p:spPr>
                <a:xfrm>
                  <a:off x="5879160" y="2518560"/>
                  <a:ext cx="2409480" cy="28872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40"/>
                <p:cNvSpPr/>
                <p:nvPr/>
              </p:nvSpPr>
              <p:spPr>
                <a:xfrm>
                  <a:off x="5879160" y="200052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450" h="50">
                      <a:moveTo>
                        <a:pt x="0" y="50"/>
                      </a:moveTo>
                      <a:lnTo>
                        <a:pt x="66" y="0"/>
                      </a:lnTo>
                      <a:lnTo>
                        <a:pt x="450" y="0"/>
                      </a:lnTo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41"/>
                <p:cNvSpPr/>
                <p:nvPr/>
              </p:nvSpPr>
              <p:spPr>
                <a:xfrm>
                  <a:off x="5879160" y="4076280"/>
                  <a:ext cx="2409480" cy="288360"/>
                </a:xfrm>
                <a:custGeom>
                  <a:avLst/>
                  <a:gdLst/>
                  <a:ahLst/>
                  <a:rect l="l" t="t" r="r" b="b"/>
                  <a:pathLst>
                    <a:path w="1547" h="172">
                      <a:moveTo>
                        <a:pt x="1547" y="0"/>
                      </a:moveTo>
                      <a:lnTo>
                        <a:pt x="1320" y="172"/>
                      </a:lnTo>
                      <a:lnTo>
                        <a:pt x="0" y="172"/>
                      </a:lnTo>
                      <a:lnTo>
                        <a:pt x="227" y="0"/>
                      </a:lnTo>
                      <a:lnTo>
                        <a:pt x="1547" y="0"/>
                      </a:lnTo>
                      <a:close/>
                    </a:path>
                  </a:pathLst>
                </a:custGeom>
                <a:noFill/>
                <a:ln w="0">
                  <a:solidFill>
                    <a:srgbClr val="0c2074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42"/>
                <p:cNvSpPr/>
                <p:nvPr/>
              </p:nvSpPr>
              <p:spPr>
                <a:xfrm>
                  <a:off x="6703200" y="4083840"/>
                  <a:ext cx="140040" cy="196200"/>
                </a:xfrm>
                <a:custGeom>
                  <a:avLst/>
                  <a:gdLst/>
                  <a:ahLst/>
                  <a:rect l="l" t="t" r="r" b="b"/>
                  <a:pathLst>
                    <a:path w="90" h="117">
                      <a:moveTo>
                        <a:pt x="0" y="117"/>
                      </a:moveTo>
                      <a:lnTo>
                        <a:pt x="0" y="68"/>
                      </a:lnTo>
                      <a:lnTo>
                        <a:pt x="90" y="0"/>
                      </a:lnTo>
                      <a:lnTo>
                        <a:pt x="90" y="48"/>
                      </a:lnTo>
                      <a:lnTo>
                        <a:pt x="0" y="117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6" name="Rectangle 43"/>
                <p:cNvSpPr/>
                <p:nvPr/>
              </p:nvSpPr>
              <p:spPr>
                <a:xfrm>
                  <a:off x="6292080" y="4197240"/>
                  <a:ext cx="411120" cy="8280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44"/>
                <p:cNvSpPr/>
                <p:nvPr/>
              </p:nvSpPr>
              <p:spPr>
                <a:xfrm>
                  <a:off x="6703200" y="3747240"/>
                  <a:ext cx="140040" cy="450000"/>
                </a:xfrm>
                <a:custGeom>
                  <a:avLst/>
                  <a:gdLst/>
                  <a:ahLst/>
                  <a:rect l="l" t="t" r="r" b="b"/>
                  <a:pathLst>
                    <a:path w="90" h="268">
                      <a:moveTo>
                        <a:pt x="0" y="268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00"/>
                      </a:lnTo>
                      <a:lnTo>
                        <a:pt x="0" y="268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8" name="Rectangle 45"/>
                <p:cNvSpPr/>
                <p:nvPr/>
              </p:nvSpPr>
              <p:spPr>
                <a:xfrm>
                  <a:off x="6292080" y="3863160"/>
                  <a:ext cx="411120" cy="33372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46"/>
                <p:cNvSpPr/>
                <p:nvPr/>
              </p:nvSpPr>
              <p:spPr>
                <a:xfrm>
                  <a:off x="6703200" y="3073320"/>
                  <a:ext cx="140040" cy="789840"/>
                </a:xfrm>
                <a:custGeom>
                  <a:avLst/>
                  <a:gdLst/>
                  <a:ahLst/>
                  <a:rect l="l" t="t" r="r" b="b"/>
                  <a:pathLst>
                    <a:path w="90" h="471">
                      <a:moveTo>
                        <a:pt x="0" y="471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402"/>
                      </a:lnTo>
                      <a:lnTo>
                        <a:pt x="0" y="471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0" name="Rectangle 47"/>
                <p:cNvSpPr/>
                <p:nvPr/>
              </p:nvSpPr>
              <p:spPr>
                <a:xfrm>
                  <a:off x="6292080" y="3189240"/>
                  <a:ext cx="411120" cy="67356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48"/>
                <p:cNvSpPr/>
                <p:nvPr/>
              </p:nvSpPr>
              <p:spPr>
                <a:xfrm>
                  <a:off x="6703200" y="2530800"/>
                  <a:ext cx="140040" cy="658440"/>
                </a:xfrm>
                <a:custGeom>
                  <a:avLst/>
                  <a:gdLst/>
                  <a:ahLst/>
                  <a:rect l="l" t="t" r="r" b="b"/>
                  <a:pathLst>
                    <a:path w="90" h="392">
                      <a:moveTo>
                        <a:pt x="0" y="392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23"/>
                      </a:lnTo>
                      <a:lnTo>
                        <a:pt x="0" y="392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2" name="Rectangle 49"/>
                <p:cNvSpPr/>
                <p:nvPr/>
              </p:nvSpPr>
              <p:spPr>
                <a:xfrm>
                  <a:off x="6292080" y="2647080"/>
                  <a:ext cx="411120" cy="54216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50"/>
                <p:cNvSpPr/>
                <p:nvPr/>
              </p:nvSpPr>
              <p:spPr>
                <a:xfrm>
                  <a:off x="6703200" y="1961280"/>
                  <a:ext cx="140040" cy="685800"/>
                </a:xfrm>
                <a:custGeom>
                  <a:avLst/>
                  <a:gdLst/>
                  <a:ahLst/>
                  <a:rect l="l" t="t" r="r" b="b"/>
                  <a:pathLst>
                    <a:path w="90" h="409">
                      <a:moveTo>
                        <a:pt x="0" y="409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340"/>
                      </a:lnTo>
                      <a:lnTo>
                        <a:pt x="0" y="409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4" name="Rectangle 51"/>
                <p:cNvSpPr/>
                <p:nvPr/>
              </p:nvSpPr>
              <p:spPr>
                <a:xfrm>
                  <a:off x="6292080" y="2076120"/>
                  <a:ext cx="411120" cy="57096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52"/>
                <p:cNvSpPr/>
                <p:nvPr/>
              </p:nvSpPr>
              <p:spPr>
                <a:xfrm>
                  <a:off x="6703200" y="1568520"/>
                  <a:ext cx="140040" cy="507240"/>
                </a:xfrm>
                <a:custGeom>
                  <a:avLst/>
                  <a:gdLst/>
                  <a:ahLst/>
                  <a:rect l="l" t="t" r="r" b="b"/>
                  <a:pathLst>
                    <a:path w="90" h="303">
                      <a:moveTo>
                        <a:pt x="0" y="303"/>
                      </a:moveTo>
                      <a:lnTo>
                        <a:pt x="0" y="69"/>
                      </a:lnTo>
                      <a:lnTo>
                        <a:pt x="90" y="0"/>
                      </a:lnTo>
                      <a:lnTo>
                        <a:pt x="90" y="234"/>
                      </a:lnTo>
                      <a:lnTo>
                        <a:pt x="0" y="303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6" name="Rectangle 53"/>
                <p:cNvSpPr/>
                <p:nvPr/>
              </p:nvSpPr>
              <p:spPr>
                <a:xfrm>
                  <a:off x="6292080" y="1683360"/>
                  <a:ext cx="411120" cy="39240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54"/>
                <p:cNvSpPr/>
                <p:nvPr/>
              </p:nvSpPr>
              <p:spPr>
                <a:xfrm>
                  <a:off x="6292080" y="1568520"/>
                  <a:ext cx="551160" cy="114480"/>
                </a:xfrm>
                <a:custGeom>
                  <a:avLst/>
                  <a:gdLst/>
                  <a:ahLst/>
                  <a:rect l="l" t="t" r="r" b="b"/>
                  <a:pathLst>
                    <a:path w="354" h="69">
                      <a:moveTo>
                        <a:pt x="264" y="69"/>
                      </a:moveTo>
                      <a:lnTo>
                        <a:pt x="354" y="0"/>
                      </a:lnTo>
                      <a:lnTo>
                        <a:pt x="93" y="0"/>
                      </a:lnTo>
                      <a:lnTo>
                        <a:pt x="0" y="69"/>
                      </a:lnTo>
                      <a:lnTo>
                        <a:pt x="264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55"/>
                <p:cNvSpPr/>
                <p:nvPr/>
              </p:nvSpPr>
              <p:spPr>
                <a:xfrm>
                  <a:off x="7733520" y="3754440"/>
                  <a:ext cx="144000" cy="525240"/>
                </a:xfrm>
                <a:custGeom>
                  <a:avLst/>
                  <a:gdLst/>
                  <a:ahLst/>
                  <a:rect l="l" t="t" r="r" b="b"/>
                  <a:pathLst>
                    <a:path w="93" h="313">
                      <a:moveTo>
                        <a:pt x="0" y="313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244"/>
                      </a:lnTo>
                      <a:lnTo>
                        <a:pt x="0" y="313"/>
                      </a:lnTo>
                      <a:close/>
                    </a:path>
                  </a:pathLst>
                </a:custGeom>
                <a:solidFill>
                  <a:srgbClr val="4d4d8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19" name="Rectangle 56"/>
                <p:cNvSpPr/>
                <p:nvPr/>
              </p:nvSpPr>
              <p:spPr>
                <a:xfrm>
                  <a:off x="7324560" y="3870720"/>
                  <a:ext cx="408600" cy="409320"/>
                </a:xfrm>
                <a:prstGeom prst="rect">
                  <a:avLst/>
                </a:prstGeom>
                <a:solidFill>
                  <a:srgbClr val="9999ff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57"/>
                <p:cNvSpPr/>
                <p:nvPr/>
              </p:nvSpPr>
              <p:spPr>
                <a:xfrm>
                  <a:off x="7733520" y="3240720"/>
                  <a:ext cx="144000" cy="630000"/>
                </a:xfrm>
                <a:custGeom>
                  <a:avLst/>
                  <a:gdLst/>
                  <a:ahLst/>
                  <a:rect l="l" t="t" r="r" b="b"/>
                  <a:pathLst>
                    <a:path w="93" h="375">
                      <a:moveTo>
                        <a:pt x="0" y="375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306"/>
                      </a:lnTo>
                      <a:lnTo>
                        <a:pt x="0" y="375"/>
                      </a:lnTo>
                      <a:close/>
                    </a:path>
                  </a:pathLst>
                </a:custGeom>
                <a:solidFill>
                  <a:srgbClr val="1a4d33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1" name="Rectangle 58"/>
                <p:cNvSpPr/>
                <p:nvPr/>
              </p:nvSpPr>
              <p:spPr>
                <a:xfrm>
                  <a:off x="7324560" y="3357360"/>
                  <a:ext cx="408600" cy="513360"/>
                </a:xfrm>
                <a:prstGeom prst="rect">
                  <a:avLst/>
                </a:prstGeom>
                <a:solidFill>
                  <a:srgbClr val="339966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59"/>
                <p:cNvSpPr/>
                <p:nvPr/>
              </p:nvSpPr>
              <p:spPr>
                <a:xfrm>
                  <a:off x="7733520" y="3068640"/>
                  <a:ext cx="144000" cy="288360"/>
                </a:xfrm>
                <a:custGeom>
                  <a:avLst/>
                  <a:gdLst/>
                  <a:ahLst/>
                  <a:rect l="l" t="t" r="r" b="b"/>
                  <a:pathLst>
                    <a:path w="93" h="172">
                      <a:moveTo>
                        <a:pt x="0" y="172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03"/>
                      </a:lnTo>
                      <a:lnTo>
                        <a:pt x="0" y="172"/>
                      </a:lnTo>
                      <a:close/>
                    </a:path>
                  </a:pathLst>
                </a:custGeom>
                <a:solidFill>
                  <a:srgbClr val="004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3" name="Rectangle 60"/>
                <p:cNvSpPr/>
                <p:nvPr/>
              </p:nvSpPr>
              <p:spPr>
                <a:xfrm>
                  <a:off x="7324560" y="3183480"/>
                  <a:ext cx="408600" cy="173520"/>
                </a:xfrm>
                <a:prstGeom prst="rect">
                  <a:avLst/>
                </a:prstGeom>
                <a:solidFill>
                  <a:srgbClr val="008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61"/>
                <p:cNvSpPr/>
                <p:nvPr/>
              </p:nvSpPr>
              <p:spPr>
                <a:xfrm>
                  <a:off x="7733520" y="2807280"/>
                  <a:ext cx="144000" cy="375840"/>
                </a:xfrm>
                <a:custGeom>
                  <a:avLst/>
                  <a:gdLst/>
                  <a:ahLst/>
                  <a:rect l="l" t="t" r="r" b="b"/>
                  <a:pathLst>
                    <a:path w="93" h="224">
                      <a:moveTo>
                        <a:pt x="0" y="224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5"/>
                      </a:lnTo>
                      <a:lnTo>
                        <a:pt x="0" y="224"/>
                      </a:lnTo>
                      <a:close/>
                    </a:path>
                  </a:pathLst>
                </a:custGeom>
                <a:solidFill>
                  <a:srgbClr val="806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5" name="Rectangle 62"/>
                <p:cNvSpPr/>
                <p:nvPr/>
              </p:nvSpPr>
              <p:spPr>
                <a:xfrm>
                  <a:off x="7324560" y="2923560"/>
                  <a:ext cx="408600" cy="259920"/>
                </a:xfrm>
                <a:prstGeom prst="rect">
                  <a:avLst/>
                </a:prstGeom>
                <a:solidFill>
                  <a:srgbClr val="ffcc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6" name="Freeform 63"/>
                <p:cNvSpPr/>
                <p:nvPr/>
              </p:nvSpPr>
              <p:spPr>
                <a:xfrm>
                  <a:off x="7733520" y="2554920"/>
                  <a:ext cx="144000" cy="368280"/>
                </a:xfrm>
                <a:custGeom>
                  <a:avLst/>
                  <a:gdLst/>
                  <a:ahLst/>
                  <a:rect l="l" t="t" r="r" b="b"/>
                  <a:pathLst>
                    <a:path w="93" h="220">
                      <a:moveTo>
                        <a:pt x="0" y="220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151"/>
                      </a:lnTo>
                      <a:lnTo>
                        <a:pt x="0" y="220"/>
                      </a:lnTo>
                      <a:close/>
                    </a:path>
                  </a:pathLst>
                </a:custGeom>
                <a:solidFill>
                  <a:srgbClr val="8033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7" name="Rectangle 64"/>
                <p:cNvSpPr/>
                <p:nvPr/>
              </p:nvSpPr>
              <p:spPr>
                <a:xfrm>
                  <a:off x="7324560" y="2669760"/>
                  <a:ext cx="408600" cy="253800"/>
                </a:xfrm>
                <a:prstGeom prst="rect">
                  <a:avLst/>
                </a:prstGeom>
                <a:solidFill>
                  <a:srgbClr val="ff66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65"/>
                <p:cNvSpPr/>
                <p:nvPr/>
              </p:nvSpPr>
              <p:spPr>
                <a:xfrm>
                  <a:off x="7733520" y="2450880"/>
                  <a:ext cx="144000" cy="218880"/>
                </a:xfrm>
                <a:custGeom>
                  <a:avLst/>
                  <a:gdLst/>
                  <a:ahLst/>
                  <a:rect l="l" t="t" r="r" b="b"/>
                  <a:pathLst>
                    <a:path w="93" h="131">
                      <a:moveTo>
                        <a:pt x="0" y="131"/>
                      </a:moveTo>
                      <a:lnTo>
                        <a:pt x="0" y="69"/>
                      </a:lnTo>
                      <a:lnTo>
                        <a:pt x="93" y="0"/>
                      </a:lnTo>
                      <a:lnTo>
                        <a:pt x="93" y="62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4d1a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29" name="Rectangle 66"/>
                <p:cNvSpPr/>
                <p:nvPr/>
              </p:nvSpPr>
              <p:spPr>
                <a:xfrm>
                  <a:off x="7324560" y="2567160"/>
                  <a:ext cx="408600" cy="102240"/>
                </a:xfrm>
                <a:prstGeom prst="rect">
                  <a:avLst/>
                </a:prstGeom>
                <a:solidFill>
                  <a:srgbClr val="9933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67"/>
                <p:cNvSpPr/>
                <p:nvPr/>
              </p:nvSpPr>
              <p:spPr>
                <a:xfrm>
                  <a:off x="7324560" y="2450880"/>
                  <a:ext cx="552600" cy="116280"/>
                </a:xfrm>
                <a:custGeom>
                  <a:avLst/>
                  <a:gdLst/>
                  <a:ahLst/>
                  <a:rect l="l" t="t" r="r" b="b"/>
                  <a:pathLst>
                    <a:path w="355" h="69">
                      <a:moveTo>
                        <a:pt x="262" y="69"/>
                      </a:moveTo>
                      <a:lnTo>
                        <a:pt x="355" y="0"/>
                      </a:lnTo>
                      <a:lnTo>
                        <a:pt x="90" y="0"/>
                      </a:lnTo>
                      <a:lnTo>
                        <a:pt x="0" y="69"/>
                      </a:lnTo>
                      <a:lnTo>
                        <a:pt x="262" y="69"/>
                      </a:lnTo>
                      <a:close/>
                    </a:path>
                  </a:pathLst>
                </a:custGeom>
                <a:solidFill>
                  <a:srgbClr val="7326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1" name="Rectangle 68"/>
                <p:cNvSpPr/>
                <p:nvPr/>
              </p:nvSpPr>
              <p:spPr>
                <a:xfrm>
                  <a:off x="5785920" y="4314960"/>
                  <a:ext cx="7092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2" name="Rectangle 69"/>
                <p:cNvSpPr/>
                <p:nvPr/>
              </p:nvSpPr>
              <p:spPr>
                <a:xfrm>
                  <a:off x="5729400" y="379548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3" name="Rectangle 70"/>
                <p:cNvSpPr/>
                <p:nvPr/>
              </p:nvSpPr>
              <p:spPr>
                <a:xfrm>
                  <a:off x="5729400" y="32709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4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4" name="Rectangle 71"/>
                <p:cNvSpPr/>
                <p:nvPr/>
              </p:nvSpPr>
              <p:spPr>
                <a:xfrm>
                  <a:off x="5729400" y="275580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6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5" name="Rectangle 72"/>
                <p:cNvSpPr/>
                <p:nvPr/>
              </p:nvSpPr>
              <p:spPr>
                <a:xfrm>
                  <a:off x="5729400" y="2237760"/>
                  <a:ext cx="1407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8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6" name="Rectangle 73"/>
                <p:cNvSpPr/>
                <p:nvPr/>
              </p:nvSpPr>
              <p:spPr>
                <a:xfrm>
                  <a:off x="5666760" y="1719720"/>
                  <a:ext cx="21096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00</a:t>
                  </a:r>
                  <a:endParaRPr b="0" lang="en-US" sz="10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7" name="Rectangle 74"/>
                <p:cNvSpPr/>
                <p:nvPr/>
              </p:nvSpPr>
              <p:spPr>
                <a:xfrm>
                  <a:off x="6244920" y="4423680"/>
                  <a:ext cx="45972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NOW</a:t>
                  </a:r>
                  <a:r>
                    <a:rPr b="0" lang="en-US" sz="7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7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8" name="Rectangle 75"/>
                <p:cNvSpPr/>
                <p:nvPr/>
              </p:nvSpPr>
              <p:spPr>
                <a:xfrm>
                  <a:off x="7172280" y="4423680"/>
                  <a:ext cx="791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ESIRED</a:t>
                  </a: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  <p:sp>
              <p:nvSpPr>
                <p:cNvPr id="439" name="AutoShape 76"/>
                <p:cNvSpPr/>
                <p:nvPr/>
              </p:nvSpPr>
              <p:spPr>
                <a:xfrm>
                  <a:off x="7328880" y="1170000"/>
                  <a:ext cx="517680" cy="1341000"/>
                </a:xfrm>
                <a:prstGeom prst="downArrow">
                  <a:avLst>
                    <a:gd name="adj1" fmla="val 50000"/>
                    <a:gd name="adj2" fmla="val 64760"/>
                  </a:avLst>
                </a:prstGeom>
                <a:gradFill rotWithShape="0">
                  <a:gsLst>
                    <a:gs pos="0">
                      <a:srgbClr val="009999"/>
                    </a:gs>
                    <a:gs pos="100000">
                      <a:srgbClr val="ffffff"/>
                    </a:gs>
                  </a:gsLst>
                  <a:lin ang="5400000"/>
                </a:gradFill>
                <a:ln w="12600">
                  <a:solidFill>
                    <a:srgbClr val="0c20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c2074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40" name="Freeform 77"/>
            <p:cNvSpPr/>
            <p:nvPr/>
          </p:nvSpPr>
          <p:spPr>
            <a:xfrm rot="9612600">
              <a:off x="6492600" y="4027320"/>
              <a:ext cx="1074960" cy="518040"/>
            </a:xfrm>
            <a:custGeom>
              <a:avLst/>
              <a:gdLst/>
              <a:ahLst/>
              <a:rect l="l" t="t" r="r" b="b"/>
              <a:pathLst>
                <a:path w="2040" h="1137">
                  <a:moveTo>
                    <a:pt x="2040" y="1137"/>
                  </a:moveTo>
                  <a:cubicBezTo>
                    <a:pt x="1868" y="957"/>
                    <a:pt x="1349" y="110"/>
                    <a:pt x="1009" y="55"/>
                  </a:cubicBezTo>
                  <a:cubicBezTo>
                    <a:pt x="669" y="0"/>
                    <a:pt x="210" y="652"/>
                    <a:pt x="0" y="809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1" name="Oval 78"/>
            <p:cNvSpPr/>
            <p:nvPr/>
          </p:nvSpPr>
          <p:spPr>
            <a:xfrm>
              <a:off x="6167880" y="3692880"/>
              <a:ext cx="636480" cy="700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442" name="Oval 79"/>
            <p:cNvSpPr/>
            <p:nvPr/>
          </p:nvSpPr>
          <p:spPr>
            <a:xfrm>
              <a:off x="7191360" y="3080880"/>
              <a:ext cx="698760" cy="13460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grpSp>
          <p:nvGrpSpPr>
            <p:cNvPr id="443" name="Group 80"/>
            <p:cNvGrpSpPr/>
            <p:nvPr/>
          </p:nvGrpSpPr>
          <p:grpSpPr>
            <a:xfrm>
              <a:off x="6142320" y="3863520"/>
              <a:ext cx="718560" cy="410760"/>
              <a:chOff x="6142320" y="3863520"/>
              <a:chExt cx="718560" cy="410760"/>
            </a:xfrm>
          </p:grpSpPr>
          <p:sp>
            <p:nvSpPr>
              <p:cNvPr id="444" name="Rectangle 81"/>
              <p:cNvSpPr/>
              <p:nvPr/>
            </p:nvSpPr>
            <p:spPr>
              <a:xfrm>
                <a:off x="6282360" y="3863520"/>
                <a:ext cx="404280" cy="41076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5" name="Text Box 82"/>
              <p:cNvSpPr/>
              <p:nvPr/>
            </p:nvSpPr>
            <p:spPr>
              <a:xfrm>
                <a:off x="6142320" y="3953880"/>
                <a:ext cx="71856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lt;2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  <p:grpSp>
          <p:nvGrpSpPr>
            <p:cNvPr id="446" name="Group 83"/>
            <p:cNvGrpSpPr/>
            <p:nvPr/>
          </p:nvGrpSpPr>
          <p:grpSpPr>
            <a:xfrm>
              <a:off x="7209360" y="3363480"/>
              <a:ext cx="717480" cy="924480"/>
              <a:chOff x="7209360" y="3363480"/>
              <a:chExt cx="717480" cy="924480"/>
            </a:xfrm>
          </p:grpSpPr>
          <p:sp>
            <p:nvSpPr>
              <p:cNvPr id="447" name="Rectangle 84"/>
              <p:cNvSpPr/>
              <p:nvPr/>
            </p:nvSpPr>
            <p:spPr>
              <a:xfrm>
                <a:off x="7349400" y="3363480"/>
                <a:ext cx="404640" cy="924480"/>
              </a:xfrm>
              <a:prstGeom prst="rect">
                <a:avLst/>
              </a:prstGeom>
              <a:solidFill>
                <a:srgbClr val="0c207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  <p:sp>
            <p:nvSpPr>
              <p:cNvPr id="448" name="Text Box 85"/>
              <p:cNvSpPr/>
              <p:nvPr/>
            </p:nvSpPr>
            <p:spPr>
              <a:xfrm>
                <a:off x="7209360" y="3671280"/>
                <a:ext cx="717480" cy="2714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c207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gt;50%</a:t>
                </a:r>
                <a:endParaRPr b="0" lang="en-US" sz="1200" spc="-1" strike="noStrike">
                  <a:solidFill>
                    <a:srgbClr val="0c2074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Text Box 86"/>
          <p:cNvSpPr/>
          <p:nvPr/>
        </p:nvSpPr>
        <p:spPr>
          <a:xfrm>
            <a:off x="4229280" y="5529240"/>
            <a:ext cx="52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2a0c6"/>
                </a:solidFill>
                <a:latin typeface="Arial"/>
              </a:rPr>
              <a:t>increasing “value-added engineering time”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0" name="Text Box 87"/>
          <p:cNvSpPr/>
          <p:nvPr/>
        </p:nvSpPr>
        <p:spPr>
          <a:xfrm>
            <a:off x="1244520" y="1949400"/>
            <a:ext cx="77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advanced material model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1" name="Text Box 88"/>
          <p:cNvSpPr/>
          <p:nvPr/>
        </p:nvSpPr>
        <p:spPr>
          <a:xfrm>
            <a:off x="1268280" y="394812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2" name="Text Box 89"/>
          <p:cNvSpPr/>
          <p:nvPr/>
        </p:nvSpPr>
        <p:spPr>
          <a:xfrm>
            <a:off x="1263600" y="3800520"/>
            <a:ext cx="77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orphing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00280"/>
          </a:xfrm>
          <a:prstGeom prst="rect">
            <a:avLst/>
          </a:prstGeom>
          <a:solidFill>
            <a:srgbClr val="02a0c6"/>
          </a:solidFill>
          <a:ln w="0">
            <a:noFill/>
          </a:ln>
        </p:spPr>
        <p:txBody>
          <a:bodyPr lIns="46800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reference boo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228600" y="2635200"/>
            <a:ext cx="87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O.C. Zienkiewicz and R.L. Taylor: ‘Finite Element Method Set’    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470395036 - Butterworth-Heinemann - 2000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314360" y="3424320"/>
            <a:ext cx="87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1 : ‘The Basi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324080" y="369108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2 : ‘Solid Mechan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7" name="Text Box 6"/>
          <p:cNvSpPr/>
          <p:nvPr/>
        </p:nvSpPr>
        <p:spPr>
          <a:xfrm>
            <a:off x="1324080" y="3976560"/>
            <a:ext cx="873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volume 3 : ‘Fluid Dynamics’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228600" y="1219320"/>
            <a:ext cx="87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c2074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c207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aul M. Kurowski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Finite Element Analysis for Design Engineers’  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(ISBN 0-7600-1140-X   - SAE International - 200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F9D28-3742-4BC3-979D-82255A4D361A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2952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nodes are called GRID points in NASTRAN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s are defined as points in space that have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unique number (integer)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a certain location X,Y,Z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locating point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6 Degrees Of Freedom (DOFs) to move in space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oordinate systems aid in interpreting displacement result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nod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457200" y="3733920"/>
            <a:ext cx="86868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GRID       ID           CP          X             Y            Z             C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00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P : reference to coordinate system that was used to position the gri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X,Y,Z : co-ordinates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CD : reference to coordinate system in which the input (loads, BC) and output (displacements) are defined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2" marL="1097280" indent="-21924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1F2D-198D-400A-B568-B83BB7B16D95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0" name="Picture 2" descr="basic_elements_TABLE"/>
          <p:cNvPicPr/>
          <p:nvPr/>
        </p:nvPicPr>
        <p:blipFill>
          <a:blip r:embed="rId1"/>
          <a:stretch/>
        </p:blipFill>
        <p:spPr>
          <a:xfrm>
            <a:off x="1133640" y="2219400"/>
            <a:ext cx="7010280" cy="38005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6636-713F-49C0-9847-30ABEDE51BC7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0" y="3581280"/>
            <a:ext cx="2514600" cy="1752840"/>
          </a:xfrm>
          <a:prstGeom prst="rect">
            <a:avLst/>
          </a:prstGeom>
          <a:noFill/>
          <a:ln w="12600">
            <a:solidFill>
              <a:srgbClr val="0c20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6224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57" name="Picture 5" descr="CBAR_step3"/>
          <p:cNvPicPr/>
          <p:nvPr/>
        </p:nvPicPr>
        <p:blipFill>
          <a:blip r:embed="rId1"/>
          <a:srcRect l="0" t="0" r="0" b="3811"/>
          <a:stretch/>
        </p:blipFill>
        <p:spPr>
          <a:xfrm>
            <a:off x="5181480" y="3351240"/>
            <a:ext cx="3810240" cy="350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152280" y="1523880"/>
          <a:ext cx="8229600" cy="1665360"/>
        </p:xfrm>
        <a:graphic>
          <a:graphicData uri="http://schemas.openxmlformats.org/drawingml/2006/table">
            <a:tbl>
              <a:tblPr/>
              <a:tblGrid>
                <a:gridCol w="2133720"/>
                <a:gridCol w="2514600"/>
                <a:gridCol w="358128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3D Solid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2D Surfac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1D Line Element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13680">
                      <a:solidFill>
                        <a:srgbClr val="0c2074"/>
                      </a:solidFill>
                    </a:lnT>
                    <a:lnB w="5760">
                      <a:solidFill>
                        <a:srgbClr val="0c2074"/>
                      </a:solidFill>
                    </a:lnB>
                    <a:noFill/>
                  </a:tcPr>
                </a:tc>
              </a:tr>
              <a:tr h="119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&lt;none&gt;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Plate/Shell Thicknes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576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orientation (3th point)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c2074"/>
                          </a:solidFill>
                          <a:latin typeface="Arial"/>
                        </a:rPr>
                        <a:t>Beam cross section properties</a:t>
                      </a:r>
                      <a:endParaRPr b="0" lang="en-US" sz="1400" spc="-1" strike="noStrike">
                        <a:solidFill>
                          <a:srgbClr val="0c207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c2074"/>
                      </a:solidFill>
                    </a:lnL>
                    <a:lnR w="13680">
                      <a:solidFill>
                        <a:srgbClr val="0c2074"/>
                      </a:solidFill>
                    </a:lnR>
                    <a:lnT w="5760">
                      <a:solidFill>
                        <a:srgbClr val="0c2074"/>
                      </a:solidFill>
                    </a:lnT>
                    <a:lnB w="13680">
                      <a:solidFill>
                        <a:srgbClr val="0c207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21"/>
          <p:cNvSpPr/>
          <p:nvPr/>
        </p:nvSpPr>
        <p:spPr>
          <a:xfrm>
            <a:off x="265752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  <p:pic>
        <p:nvPicPr>
          <p:cNvPr id="160" name="Picture 22" descr="CTETRA_conv"/>
          <p:cNvPicPr/>
          <p:nvPr/>
        </p:nvPicPr>
        <p:blipFill>
          <a:blip r:embed="rId2"/>
          <a:stretch/>
        </p:blipFill>
        <p:spPr>
          <a:xfrm>
            <a:off x="152280" y="3581280"/>
            <a:ext cx="2057400" cy="177336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23"/>
          <p:cNvGrpSpPr/>
          <p:nvPr/>
        </p:nvGrpSpPr>
        <p:grpSpPr>
          <a:xfrm>
            <a:off x="2438280" y="3886200"/>
            <a:ext cx="2133720" cy="1142640"/>
            <a:chOff x="2438280" y="3886200"/>
            <a:chExt cx="2133720" cy="1142640"/>
          </a:xfrm>
        </p:grpSpPr>
        <p:sp>
          <p:nvSpPr>
            <p:cNvPr id="162" name="Freeform 24"/>
            <p:cNvSpPr/>
            <p:nvPr/>
          </p:nvSpPr>
          <p:spPr>
            <a:xfrm>
              <a:off x="2438280" y="3886200"/>
              <a:ext cx="2133720" cy="914400"/>
            </a:xfrm>
            <a:custGeom>
              <a:avLst/>
              <a:gdLst/>
              <a:ahLst/>
              <a:rect l="l" t="t" r="r" b="b"/>
              <a:pathLst>
                <a:path w="1344" h="576">
                  <a:moveTo>
                    <a:pt x="0" y="576"/>
                  </a:moveTo>
                  <a:lnTo>
                    <a:pt x="1152" y="432"/>
                  </a:lnTo>
                  <a:lnTo>
                    <a:pt x="1344" y="0"/>
                  </a:lnTo>
                  <a:lnTo>
                    <a:pt x="240" y="144"/>
                  </a:lnTo>
                  <a:lnTo>
                    <a:pt x="0" y="576"/>
                  </a:lnTo>
                  <a:close/>
                </a:path>
              </a:pathLst>
            </a:custGeom>
            <a:solidFill>
              <a:srgbClr val="0c2074"/>
            </a:solidFill>
            <a:ln w="25560">
              <a:solidFill>
                <a:srgbClr val="99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3" name="Line 25"/>
            <p:cNvSpPr/>
            <p:nvPr/>
          </p:nvSpPr>
          <p:spPr>
            <a:xfrm>
              <a:off x="3429000" y="4267080"/>
              <a:ext cx="0" cy="38088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  <p:sp>
          <p:nvSpPr>
            <p:cNvPr id="164" name="Line 26"/>
            <p:cNvSpPr/>
            <p:nvPr/>
          </p:nvSpPr>
          <p:spPr>
            <a:xfrm flipV="1">
              <a:off x="3429000" y="4723920"/>
              <a:ext cx="0" cy="304920"/>
            </a:xfrm>
            <a:prstGeom prst="line">
              <a:avLst/>
            </a:prstGeom>
            <a:ln w="1260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400" spc="-1" strike="noStrike">
                <a:solidFill>
                  <a:srgbClr val="0c2074"/>
                </a:solidFill>
                <a:latin typeface="Arial"/>
              </a:endParaRPr>
            </a:p>
          </p:txBody>
        </p:sp>
      </p:grpSp>
      <p:sp>
        <p:nvSpPr>
          <p:cNvPr id="165" name="Text Box 27"/>
          <p:cNvSpPr/>
          <p:nvPr/>
        </p:nvSpPr>
        <p:spPr>
          <a:xfrm>
            <a:off x="3505320" y="4724280"/>
            <a:ext cx="4572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baseline="-25000">
                <a:solidFill>
                  <a:srgbClr val="0c2074"/>
                </a:solidFill>
                <a:latin typeface="Times New Roman"/>
              </a:rPr>
              <a:t>t</a:t>
            </a:r>
            <a:endParaRPr b="0" lang="en-US" sz="4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6" name="Rectangle 29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7" name="Text Box 30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68" name="Text Box 31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geometry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F152-A2B5-4C42-B782-9A3AA1D64272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Basic Material Property Definition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linear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deformation are directly proportional to the applied loa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elast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an elastic structure returns to its original, undeformed  shape when the load is removed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homogeneous 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: properties are independent of location within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c2074"/>
                </a:solidFill>
                <a:latin typeface="Arial"/>
              </a:rPr>
              <a:t>isotropic</a:t>
            </a: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 : material properties do not change with the direction of the material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6477120" y="1676520"/>
            <a:ext cx="266688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aterial propertie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228600" y="4038480"/>
            <a:ext cx="84582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400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ERIAL  definition statement :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c2074"/>
                </a:solidFill>
                <a:latin typeface="Arial"/>
              </a:rPr>
              <a:t>MAT1       ID           E           G             NU            RHO             ...        …      GE     </a:t>
            </a:r>
            <a:endParaRPr b="0" lang="en-US" sz="1600" spc="-1" strike="noStrike">
              <a:solidFill>
                <a:srgbClr val="0c2074"/>
              </a:solidFill>
              <a:latin typeface="Arial"/>
            </a:endParaRPr>
          </a:p>
          <a:p>
            <a:pPr lvl="1" marL="646200" indent="-248400">
              <a:spcBef>
                <a:spcPts val="349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where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ID :  identification number 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E :   Young’s modulus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 :   Shear modulus  G = 0.5 * E / (1 + NU)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NU : Poisson’s ratio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RHO : Mass density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lvl="2" marL="994320" indent="-198720">
              <a:spcBef>
                <a:spcPts val="349"/>
              </a:spcBef>
              <a:buClr>
                <a:srgbClr val="9999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c2074"/>
                </a:solidFill>
                <a:latin typeface="Arial"/>
              </a:rPr>
              <a:t>GE  : structural damping coefficient</a:t>
            </a: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  <a:p>
            <a:pPr marL="298440" indent="-298440">
              <a:spcBef>
                <a:spcPts val="349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27112-F70F-4A33-BA75-3D4EEADCAF49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2057040"/>
            <a:ext cx="77421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most FE solvers do not have an explicit notion of physical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t is the user’s responsibility to use a consistent set of units.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popular unit sets : SI, English Units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If the units are not known, try to estimate them from : 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grid coordinates (if you know the dimensions of the structure, you should be able to deduce the length uni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the material definition (for known materials such as steel, aluminum, ….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mmon mistakes in FE models originate from wrong material values (due to wrong unit conversions) !!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egnaposto data 3"/>
          <p:cNvSpPr/>
          <p:nvPr/>
        </p:nvSpPr>
        <p:spPr>
          <a:xfrm>
            <a:off x="2286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40182-C28D-49DF-B595-4E1C5821D2A3}" type="slidenum">
              <a:rPr b="0" lang="en-US" sz="900" spc="-1" strike="noStrike">
                <a:solidFill>
                  <a:srgbClr val="0c2074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800" y="2133360"/>
            <a:ext cx="77421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Static Loads :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concentrated loads applied to grid points (FORCE, MOMENT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distributed loads on line elements (PLOAD1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uniform pressure loads on surface (PLOAD, PLOAD2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normal pressure load on face of 2D or 3D element (PLOAD4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gravity or acceleration loads (GRAV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99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c2074"/>
                </a:solidFill>
                <a:latin typeface="Arial"/>
              </a:rPr>
              <a:t>Enforced displacement (SPCD)</a:t>
            </a: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763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8000" rIns="92160" tIns="46080" bIns="46080" anchor="ctr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 technology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elling proces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7016760" y="112716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reprocessing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029360" y="1676520"/>
            <a:ext cx="2114640" cy="39888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loads</a:t>
            </a:r>
            <a:endParaRPr b="0" lang="en-US" sz="2000" spc="-1" strike="noStrike">
              <a:solidFill>
                <a:srgbClr val="0c207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21:16:59Z</dcterms:created>
  <dc:creator>Wim-Armand Desmet</dc:creator>
  <dc:description/>
  <dc:language>en-US</dc:language>
  <cp:lastModifiedBy>Emiliano Mucchi</cp:lastModifiedBy>
  <cp:lastPrinted>2005-02-23T16:05:49Z</cp:lastPrinted>
  <dcterms:modified xsi:type="dcterms:W3CDTF">2020-02-12T16:14:07Z</dcterms:modified>
  <cp:revision>363</cp:revision>
  <dc:subject/>
  <dc:title>PowerPoint Presentation</dc:title>
</cp:coreProperties>
</file>